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711000" y="746280"/>
            <a:ext cx="5383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A41B-B006-4B16-A169-41DCF290B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F41-7EF6-4C65-A67F-F93C26001C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6A3D-F9C4-451E-951F-E6624044CE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191-572E-4A7E-BA87-8C74734047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F85C-124A-4059-851F-1375075CD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B51-EC76-4A93-BC1D-616C2B67F9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499-7C28-4BED-8596-57B580BCB2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330-695F-4898-8226-F708818B2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897-3134-4818-ACB1-0236741F1C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EAA2-316D-42F2-8700-C7B9011116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E08-D3FA-4614-BC15-CC90CE8D6C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4C2-6145-4965-8F4A-F1CF1906CF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D1E-EB1C-4698-A58D-4D95E9D32A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610-4E2D-4737-9C0E-8EDB10B3B0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A13-5C6A-4F6D-BC35-F537FD2FC5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E8C-769F-45E0-B5AB-413969C1C5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0AE-F810-491A-93C3-2213A5EBE8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F79-66D3-469E-B9D6-F6B12F2261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0D8-5D03-41AD-83FA-0617DD03DF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41A6-2A09-4310-9159-2A45544779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199-C79F-42F6-BB2A-0E41C701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016-95E4-42AF-B8A7-4F4AF51E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8C67-C0D5-4281-A8FE-46AD7C3D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0ED9-289D-4E99-9BF5-17332C99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8DC2F-EF6D-48FF-9FA4-F82F892D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ACB9E-08D6-4878-A8AB-1D72661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A482-7D0B-4DD3-AE0D-FF77415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8FDC-F100-4455-9ECA-49D7F1B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C68F5-C099-4267-95F1-15AB39E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4561-1683-4EC8-9919-4F21040A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D7F28-30FD-4A62-A913-43871C9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AEA-2662-4F5B-85D3-D4010E81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32A-B7BA-4196-BEA6-1ABAAB7C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2438-0DC1-4349-9381-4700875A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DB41-8860-4291-8F38-4E75B41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3825-3EE1-4610-B40F-41747CE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16C-EEB1-40FD-8B88-46CEA9E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8E49-4C5B-40E8-9438-26A55E9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FB38-2128-45A7-A1B3-AD785C2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BF7-4091-4063-820B-78088CE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3A6-E4C4-4986-8F61-6AD041C5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C8C6-1D95-4DC4-8AA6-D4C057A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86F-B92F-4A3C-AA96-CB2B8F8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164-506E-4E89-86F0-5D0F2142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359C-6CBF-4A9C-8AA5-05F88F51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D52D-3D22-4E8A-813F-923A510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3110-B6ED-4AF6-BE30-18E0787E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A637-4109-4C58-BB5C-81D4FA8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5288-1B98-4A64-878D-9B759A2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3E06-8CBA-46AC-9600-1804A7D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80F2-2A31-44CA-AE25-37049466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3C9-AA5B-405D-8B10-8DBC642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0807-47EA-4D08-84EE-EB39C99C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0335-367A-4F87-B1B4-282FAAE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CB4C-2F88-447F-8A76-EF6DAD1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06B1-EAAF-408C-8C61-3481203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52DA-F771-4F99-A37E-5EE68A76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1E4D-16C6-4555-BF32-BE945F04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CFEC-9CE7-4C21-9541-1AC8CD0D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0B28-DDE2-4BA7-9B85-EE82BA0E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DB9D-8A1A-435F-8D02-9DED6F8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561A-E724-457B-9E78-DBAA5232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4AF-6E8C-4DB5-9443-B319FC7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922D-A852-41F3-971F-4CBB44C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383E-0154-4DC7-8374-834927E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2D11-DDF5-4538-A17D-CBB4315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1E95-B3D9-41CB-93F2-C4F1E78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EA08-CF2B-4F9D-A11C-49DC5A3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1FF2-EB28-4B28-883B-C48D8A2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F6BF-0966-44C3-8127-96D6509A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AEFC-CCF6-45C2-A416-28FBD4CE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6853-7A88-4D4E-A359-342F36AD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91FF-9AD4-489B-BA5C-C8A754A1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E73-D0EA-42D9-8F74-AB0C27F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F7D6-1220-4359-AB6A-AC2FE62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1C0C-BD13-4052-8670-520EDD7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166D-4675-4333-AA7C-C8DE5AA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7E0F-FAA5-4783-8FA2-DC7F0F8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E619-AC5D-4AD2-8974-8A24098F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B570-9E20-4E33-9E4B-8FD6C53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D724-D460-4065-AD2C-E152A2A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A6A7-9BDD-41A6-BFCF-4117E2F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06CC-CF1A-4B89-85CC-64CEA25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49DC-C6DA-4A8B-BD8F-77FC2651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338-36D9-46AE-9404-38BCAA54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3841-8E99-43DE-86AE-ECA6A54D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4AC3-BB50-44F5-B9B3-7E0D0A8F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1B8E-BC34-43B0-A347-3FBD713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738D-3241-40D4-8ABD-7675C92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41BE-B58C-4DC2-B932-BB5B95D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0229-9FAC-4A62-AE7A-FB6D018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9A3E-8656-4668-B3D7-FD45FBD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294F-B365-43E4-943D-65243E9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C8622-A9A8-4B28-8B5C-342ABC7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80440-F9FB-43D3-8B6C-47B5DA9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D53-4D08-499A-A100-07A6AFA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EEE7-D7E0-436D-8251-9DE2C94F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AC17-A317-4848-8193-6609D8CD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5581-B5B2-4AAC-B34C-CA823995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1A6A-4A8F-427C-99E7-3206884A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5B34-DFCB-4357-ACF4-49C2BAA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EF8D-6762-4DBB-BB3F-3A25EC4A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EF5F-B4DB-44D6-BC05-D7B7C88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9AAB-8464-46C0-841D-A1D70F8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C73E-7711-4137-9301-D92EADC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B844-3EAB-4D5F-A770-DF4827A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CA5-1A60-49E8-8D98-C87F60E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190E-0436-4F4C-8D4D-31F291E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E8E7-CAA8-4BDA-838C-27DC058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3708-097A-4C34-A862-ECB543D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4EEC-DB7A-464C-A261-242A0B7D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3A03-CB2E-4B8B-B12D-39C56447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AD48-B928-423E-9B9F-1FEEB94B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3D92E-9EFE-4670-9971-C7B9A3C3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A661-E8F5-490D-BEEA-B3169C7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E3D2-07E7-4AC8-A4F6-512CA09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46DD-2B46-439D-B948-4BB9A437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7C0-A368-42D7-8F32-06970A5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77DF-1761-44A8-B277-51F47E6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A37BC-9D09-4CF0-BE37-1B2AD58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CA0A-9D8C-4E0E-B8FF-C59AACA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8F9E-26DA-4C82-8CC7-D08B81F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1B376-18EB-42B2-A51B-2CC6343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4FEA-0D8D-41FC-96DB-0987AE5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2D32-1411-4B41-BD63-548917B3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A4333-97AA-4161-9B02-7116DC48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E64B-30D6-4A12-938E-F11916DC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D9C53-5AB5-44D3-A1C9-3FB8584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F94D-BAC1-4635-9966-4DD914274E4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FAF5-498F-4FE4-A42A-3D609335D956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33960" y="6354360"/>
            <a:ext cx="247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4BE-E23E-4A88-A89A-F25D3C00F89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39920" y="6354360"/>
            <a:ext cx="3764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317240" y="635436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93F-2F15-43DE-91C4-C19B91097230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380960" y="620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ttes et monnaie de s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E1AC-5B2F-42EC-B6BF-C0EBF088DF9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F69-2DA4-4B75-9637-3EA42DB91F3D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990720" y="2819520"/>
            <a:ext cx="79246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90720" y="2819520"/>
            <a:ext cx="24768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33960" y="6354360"/>
            <a:ext cx="247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1A78-4A42-4FC5-8B60-30F3AF2C4367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39920" y="6354360"/>
            <a:ext cx="3764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58480" y="6354360"/>
            <a:ext cx="1647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1DF-F246-4B20-A1C1-0AF6563CFE36}" type="slidenum"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riangle isocèle 10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1386000" y="6015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ttes et monnaie de s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7C26-D387-42E0-8625-522FC1E0C686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02D-6D7B-4A7A-8DF3-BA7F66610EE6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C34-C617-4E34-8222-271FE06F8FA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6ABE-3269-4B59-A2B9-20445AF63793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nnecteur droit 11"/>
          <p:cNvSpPr/>
          <p:nvPr/>
        </p:nvSpPr>
        <p:spPr>
          <a:xfrm>
            <a:off x="669276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riangle isocèle 12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621-3AA5-44D3-8F9D-D5325812053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758C-AB0C-4FF4-A1EC-B429CD84DED8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495360" y="500040"/>
            <a:ext cx="19836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5897-7DAA-46AD-9459-AD6135BDE7EE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2FD1-53D5-41A3-B3B5-A7470BCE4AB9}" type="slidenum"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necteur droit 14"/>
          <p:cNvSpPr/>
          <p:nvPr/>
        </p:nvSpPr>
        <p:spPr>
          <a:xfrm>
            <a:off x="71024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F19-2093-4EB5-BE63-1EA23684AD9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6D77-E622-47F6-999B-ED3584843BDA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2792520" y="1268280"/>
            <a:ext cx="3673440" cy="5445360"/>
          </a:xfrm>
          <a:prstGeom prst="rect">
            <a:avLst/>
          </a:prstGeom>
          <a:solidFill>
            <a:srgbClr val="fdf0c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re 1"/>
          <p:cNvSpPr/>
          <p:nvPr/>
        </p:nvSpPr>
        <p:spPr>
          <a:xfrm>
            <a:off x="781200" y="33336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4653"/>
                </a:solidFill>
                <a:latin typeface="Bookman Old Style"/>
              </a:rPr>
              <a:t>COE -REXECODE </a:t>
            </a:r>
            <a:br>
              <a:rPr sz="3600"/>
            </a:br>
            <a:r>
              <a:rPr b="0" lang="fr-FR" sz="2400" spc="-1" strike="noStrike">
                <a:solidFill>
                  <a:srgbClr val="464653"/>
                </a:solidFill>
                <a:latin typeface="Bookman Old Style"/>
              </a:rPr>
              <a:t>1</a:t>
            </a:r>
            <a:r>
              <a:rPr b="0" lang="fr-FR" sz="2400" spc="-1" strike="noStrike" baseline="30000">
                <a:solidFill>
                  <a:srgbClr val="464653"/>
                </a:solidFill>
                <a:latin typeface="Bookman Old Style"/>
              </a:rPr>
              <a:t>er</a:t>
            </a:r>
            <a:r>
              <a:rPr b="0" lang="fr-FR" sz="2400" spc="-1" strike="noStrike">
                <a:solidFill>
                  <a:srgbClr val="464653"/>
                </a:solidFill>
                <a:latin typeface="Bookman Old Style"/>
              </a:rPr>
              <a:t>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ous-titre 2"/>
          <p:cNvSpPr/>
          <p:nvPr/>
        </p:nvSpPr>
        <p:spPr>
          <a:xfrm>
            <a:off x="2433600" y="1341360"/>
            <a:ext cx="3598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Rod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Dettes </a:t>
            </a:r>
            <a:r>
              <a:rPr b="0" lang="fr-FR" sz="2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monna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de</a:t>
            </a: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 si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Un système écono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à renouv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Monotype Corsiva"/>
                <a:ea typeface="Segoe UI"/>
              </a:rPr>
              <a:t>f o r u m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Monotype Corsiva"/>
                <a:ea typeface="Segoe UI"/>
              </a:rPr>
              <a:t>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SAL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7D0-F79D-4BD5-AD2F-9A68559E7336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60520" y="1268280"/>
            <a:ext cx="902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Gill Sans MT"/>
              </a:rPr>
              <a:t>La dette américaine ou plutôt les dettes des agents américai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Processus croissant en % du PIB de 1980 à 2008, sans correction 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Le poids des banques de 20% à 150% PIB 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14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Besoin de fonds propres de 1,6% PIB à 12% PIB (?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 écroulement du système avant l’arrivée des défauts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14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implosion sans choc extern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Gill Sans MT"/>
              </a:rPr>
              <a:t>Conclusion :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 exemple-type du phénomène qui aurait dû être 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étecté (par la Fed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Analysé (par l’Université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Combattu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 Régulé par un dispositif efficace de rétroaction (feedback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C20-E6BE-4F8F-A3EC-4166FF8311F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88880" y="2709360"/>
            <a:ext cx="892800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e représentation erronée de l’incertitude est au cœur des modèles d’activité, des dispositifs comptables et prudentiel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ZoneTexte 5"/>
          <p:cNvSpPr/>
          <p:nvPr/>
        </p:nvSpPr>
        <p:spPr>
          <a:xfrm>
            <a:off x="488880" y="122076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Pourquoi la montée des dettes n’a-t-elle pas été détecté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Un DIAGNOSTIC scientifique établ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Diagramme 3" descr=""/>
          <p:cNvPicPr/>
          <p:nvPr/>
        </p:nvPicPr>
        <p:blipFill>
          <a:blip r:embed="rId1"/>
          <a:stretch/>
        </p:blipFill>
        <p:spPr>
          <a:xfrm>
            <a:off x="353880" y="3060720"/>
            <a:ext cx="9180720" cy="2674800"/>
          </a:xfrm>
          <a:prstGeom prst="rect">
            <a:avLst/>
          </a:prstGeom>
          <a:ln w="0">
            <a:noFill/>
          </a:ln>
        </p:spPr>
      </p:pic>
      <p:sp>
        <p:nvSpPr>
          <p:cNvPr id="500" name="ZoneTexte 6"/>
          <p:cNvSpPr/>
          <p:nvPr/>
        </p:nvSpPr>
        <p:spPr>
          <a:xfrm>
            <a:off x="344520" y="6021360"/>
            <a:ext cx="900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Voir :actes du colloque du 29 nov. 2009 Paris dans « Nouvelles normes financières, s’organiser face à la crise Ch. WALTER(dir.) éd. Springer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Espace réservé du pied de page 7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3CC-6551-4CA9-8475-99BB2DAB68CE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7288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: un « risque » gérable et utile  car il est reconnu comm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Diagramme 4" descr=""/>
          <p:cNvPicPr/>
          <p:nvPr/>
        </p:nvPicPr>
        <p:blipFill>
          <a:blip r:embed="rId1"/>
          <a:stretch/>
        </p:blipFill>
        <p:spPr>
          <a:xfrm>
            <a:off x="633240" y="1835280"/>
            <a:ext cx="8547120" cy="4413240"/>
          </a:xfrm>
          <a:prstGeom prst="rect">
            <a:avLst/>
          </a:prstGeom>
          <a:ln w="0">
            <a:noFill/>
          </a:ln>
        </p:spPr>
      </p:pic>
      <p:sp>
        <p:nvSpPr>
          <p:cNvPr id="505" name="ZoneTexte 6"/>
          <p:cNvSpPr/>
          <p:nvPr/>
        </p:nvSpPr>
        <p:spPr>
          <a:xfrm>
            <a:off x="7256520" y="2938320"/>
            <a:ext cx="19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activités ex ni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parti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outils mathémat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« nouvelle frontière » est ainsi à repous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oneTexte 8"/>
          <p:cNvSpPr/>
          <p:nvPr/>
        </p:nvSpPr>
        <p:spPr>
          <a:xfrm>
            <a:off x="4232160" y="2708280"/>
            <a:ext cx="1935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ransfert et la g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ouverture / assurance) sont pos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 de limite au volume d’a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oneTexte 9"/>
          <p:cNvSpPr/>
          <p:nvPr/>
        </p:nvSpPr>
        <p:spPr>
          <a:xfrm>
            <a:off x="1065240" y="2997360"/>
            <a:ext cx="1851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’est pratique pour tou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gulateur, a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ait où on va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théori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space réservé du pied de page 7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Ellipse 3"/>
          <p:cNvGrpSpPr/>
          <p:nvPr/>
        </p:nvGrpSpPr>
        <p:grpSpPr>
          <a:xfrm>
            <a:off x="4668840" y="1657440"/>
            <a:ext cx="4737240" cy="1164960"/>
            <a:chOff x="4668840" y="1657440"/>
            <a:chExt cx="4737240" cy="1164960"/>
          </a:xfrm>
        </p:grpSpPr>
        <p:pic>
          <p:nvPicPr>
            <p:cNvPr id="510" name="Ellipse 3" descr=""/>
            <p:cNvPicPr/>
            <p:nvPr/>
          </p:nvPicPr>
          <p:blipFill>
            <a:blip r:embed="rId1"/>
            <a:stretch/>
          </p:blipFill>
          <p:spPr>
            <a:xfrm>
              <a:off x="4668840" y="1657440"/>
              <a:ext cx="473724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411880" y="1851120"/>
              <a:ext cx="32590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9C58-E17F-4047-86BA-A628E842C4CB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15440" y="1268280"/>
            <a:ext cx="9001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pratiques et soci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Tableau 7" descr=""/>
          <p:cNvPicPr/>
          <p:nvPr/>
        </p:nvPicPr>
        <p:blipFill>
          <a:blip r:embed="rId2"/>
          <a:stretch/>
        </p:blipFill>
        <p:spPr>
          <a:xfrm>
            <a:off x="55440" y="3230640"/>
            <a:ext cx="9794880" cy="3103560"/>
          </a:xfrm>
          <a:prstGeom prst="rect">
            <a:avLst/>
          </a:prstGeom>
          <a:ln w="0">
            <a:noFill/>
          </a:ln>
        </p:spPr>
      </p:pic>
      <p:grpSp>
        <p:nvGrpSpPr>
          <p:cNvPr id="515" name="Forme en L 2"/>
          <p:cNvGrpSpPr/>
          <p:nvPr/>
        </p:nvGrpSpPr>
        <p:grpSpPr>
          <a:xfrm>
            <a:off x="3633840" y="1736640"/>
            <a:ext cx="725400" cy="1006560"/>
            <a:chOff x="3633840" y="1736640"/>
            <a:chExt cx="725400" cy="1006560"/>
          </a:xfrm>
        </p:grpSpPr>
        <p:pic>
          <p:nvPicPr>
            <p:cNvPr id="516" name="Forme en L 2" descr=""/>
            <p:cNvPicPr/>
            <p:nvPr/>
          </p:nvPicPr>
          <p:blipFill>
            <a:blip r:embed="rId3"/>
            <a:stretch/>
          </p:blipFill>
          <p:spPr>
            <a:xfrm>
              <a:off x="3633840" y="1736640"/>
              <a:ext cx="7254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 rot="13494600">
              <a:off x="3692520" y="1963440"/>
              <a:ext cx="62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Diagramme 1" descr=""/>
          <p:cNvPicPr/>
          <p:nvPr/>
        </p:nvPicPr>
        <p:blipFill>
          <a:blip r:embed="rId4"/>
          <a:stretch/>
        </p:blipFill>
        <p:spPr>
          <a:xfrm>
            <a:off x="208080" y="1511280"/>
            <a:ext cx="9448560" cy="143352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pied de page 8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7A3-742A-413D-928C-BC4BB8A87DF3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1153800"/>
            <a:ext cx="90806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sociales et systémiqu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Diagramme 3" descr=""/>
          <p:cNvPicPr/>
          <p:nvPr/>
        </p:nvPicPr>
        <p:blipFill>
          <a:blip r:embed="rId1"/>
          <a:stretch/>
        </p:blipFill>
        <p:spPr>
          <a:xfrm>
            <a:off x="201600" y="1407960"/>
            <a:ext cx="9496440" cy="5053320"/>
          </a:xfrm>
          <a:prstGeom prst="rect">
            <a:avLst/>
          </a:prstGeom>
          <a:ln w="0">
            <a:noFill/>
          </a:ln>
        </p:spPr>
      </p:pic>
      <p:sp>
        <p:nvSpPr>
          <p:cNvPr id="523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11A-310C-4945-A9DE-171F7532C5DE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28520" y="1341360"/>
            <a:ext cx="9648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Finance :proposition de définition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Tout ce qui traite de la fabrication, de la gestion et du commerce d’engagements monétaire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Engagement : Contrat qui lie deux parties sur une durée de temps sans flux matériel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ctivité traitant principalement d’objets </a:t>
            </a:r>
            <a:r>
              <a:rPr b="1" lang="fr-FR" sz="1700" spc="-1" strike="noStrike">
                <a:solidFill>
                  <a:srgbClr val="000000"/>
                </a:solidFill>
                <a:latin typeface="Gill Sans MT"/>
              </a:rPr>
              <a:t>immatériels essentiellement liés au temporel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Emprunt/crédit, valeurs mobilières, titrisations, marchés à terme d’options, assurance-crédit etc…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sponsabilité 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64653"/>
                </a:solidFill>
                <a:latin typeface="Gill Sans MT"/>
              </a:rPr>
              <a:t>La notion suppose d’intégrer dans le dispositif une prise en compte :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1219680" indent="-443160" algn="just">
              <a:lnSpc>
                <a:spcPct val="15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es systèmes globaux 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1219680" indent="-443160" algn="just">
              <a:lnSpc>
                <a:spcPct val="15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es entités de toutes sortes en interaction avec l’objet régulé 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64653"/>
                </a:solidFill>
                <a:latin typeface="Gill Sans MT"/>
              </a:rPr>
              <a:t>Mais aussi de favoriser les activités reconnues comme utiles socialement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26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154-3AE2-4F31-97BF-FC904F7C376B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88880" y="1308240"/>
            <a:ext cx="8928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Les objectifs principaux des autorités publique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Gill Sans MT"/>
              </a:rPr>
              <a:t>Prévenir le risque global / systém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Deux objectifs majeurs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43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Objectif n°1 </a:t>
            </a: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: la prévention des emballements collectif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Points d’attentions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 les bulles, les processus cumulatifs, les pratiques procycliques, le mimétisme, les comportements centraux 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Les acteurs principaux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: les banquiers centraux, les autorités systématiques nationales et internationales 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43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Objectif n°2 </a:t>
            </a: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: la maîtrise des conséquences d’une défaillance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Points d’attentions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les situations potentielles de « </a:t>
            </a: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moral hazard »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, pas de « </a:t>
            </a: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too big to fail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 », pas de socialisation des pertes / privatisation des gain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443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Implication à différents degrés de toutes les parties prenantes dans une situation défailla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Les acteurs principaux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: autorités de régulations, BCE, politique, pouvoir judiciair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ce réservé du numéro de diapositive 2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2656-BA42-4CA9-885C-F7BE10AB47D1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09520" y="1197000"/>
            <a:ext cx="94471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Trois axes principaux de réform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32" name="Diagramme 1" descr=""/>
          <p:cNvPicPr/>
          <p:nvPr/>
        </p:nvPicPr>
        <p:blipFill>
          <a:blip r:embed="rId1"/>
          <a:stretch/>
        </p:blipFill>
        <p:spPr>
          <a:xfrm>
            <a:off x="-19080" y="1695600"/>
            <a:ext cx="9991800" cy="4649760"/>
          </a:xfrm>
          <a:prstGeom prst="rect">
            <a:avLst/>
          </a:prstGeom>
          <a:ln w="0">
            <a:noFill/>
          </a:ln>
        </p:spPr>
      </p:pic>
      <p:sp>
        <p:nvSpPr>
          <p:cNvPr id="533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95000" y="1219320"/>
            <a:ext cx="92818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Un enjeu crucial : la réintroduction du temps et du bien commu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face à l’utopie de la mesure du risq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e situation déjà vécue dans les années avant 1929, détectée et source de contrepropositions dans les années 1930 et suivant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1. Combattre une vision déterministe de l’économie :……..          Karl POLANYI (1886-1946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2. Face à une vision désagrégée de l’économie centrée sur l’individu face au marché:   retrouver le rôle des organisations (groupe, associations, entreprises, états..)…………..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       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John R. COMMONS (1862-1942)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3. Face à la vision évaluative complexe et invérifiable des entreprises : </a:t>
            </a:r>
            <a:r>
              <a:rPr b="0" lang="fr-FR" sz="1700" spc="-1" strike="noStrike">
                <a:solidFill>
                  <a:srgbClr val="8e0000"/>
                </a:solidFill>
                <a:latin typeface="Gill Sans MT"/>
              </a:rPr>
              <a:t>on peut agir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l’adoption par les Etats Unis de la comptabilité en coûts historiques amortis en 1935…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          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Robert E. HEALY (1886-1946)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6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E3D-0853-41B6-82C1-050ED79CAC1A}" type="slidenum">
              <a:rPr b="0" lang="fr-FR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ZoneTexte 4"/>
          <p:cNvSpPr/>
          <p:nvPr/>
        </p:nvSpPr>
        <p:spPr>
          <a:xfrm>
            <a:off x="0" y="558972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La crise de 2007-???? a de nombreuses causes structurelles et intellectuelles com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avec celles de 1929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4DA-FD2B-46EA-9C09-F0A291F02DB2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8880" y="112500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Ne pas être naïf : l’économie ressort aussi des sciences politique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Elle a besoin d’un dispositif d’équilibre entre les principaux centres de pouvoir de typ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 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« </a:t>
            </a:r>
            <a:r>
              <a:rPr b="1" i="1" lang="fr-FR" sz="1600" spc="-1" strike="noStrike">
                <a:solidFill>
                  <a:srgbClr val="000000"/>
                </a:solidFill>
                <a:latin typeface="Gill Sans MT"/>
              </a:rPr>
              <a:t>checks and balances » avec des effets « feed-back 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Gill Sans MT"/>
              </a:rPr>
              <a:t>Il est difficile à concevoir, à faire adopter et à  maintenir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Les régulations efficaces ont toujours deux conséquences principales 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rein au développement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rein à la capacité d’extraction du cash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Une période de prospérité verra toujours une montée des critiques pour 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Transformer le «dispositif </a:t>
            </a:r>
            <a:r>
              <a:rPr b="0" i="1" lang="fr-FR" sz="1300" spc="-1" strike="noStrike">
                <a:solidFill>
                  <a:srgbClr val="464653"/>
                </a:solidFill>
                <a:latin typeface="Gill Sans MT"/>
              </a:rPr>
              <a:t>feedback</a:t>
            </a: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 » en « procédures légales»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avoriser la constitution d’oligopoles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Réduire les réserves de prudence par extraction de cash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Les indices d’une « capture régulatoire 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Mobilité des intervenants : professionnels/régulateurs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Montée du poids des experts et d’une vision technique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Discours de type «  </a:t>
            </a:r>
            <a:r>
              <a:rPr b="0" i="1" lang="fr-FR" sz="1300" spc="-1" strike="noStrike">
                <a:solidFill>
                  <a:srgbClr val="464653"/>
                </a:solidFill>
                <a:latin typeface="Gill Sans MT"/>
              </a:rPr>
              <a:t>time is different</a:t>
            </a: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 »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Une convictio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Le temps principal objet de la finance (engagement /temps) n’est pas réductible par la technique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Gill Sans MT"/>
              </a:rPr>
              <a:t>Penser qu’un « système » est la solution est irréaliste: la sagesse des hommes reste essentielle.</a:t>
            </a:r>
            <a:r>
              <a:rPr b="1" lang="fr-FR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41" name="ZoneTexte 5"/>
          <p:cNvSpPr/>
          <p:nvPr/>
        </p:nvSpPr>
        <p:spPr>
          <a:xfrm>
            <a:off x="404640" y="1052640"/>
            <a:ext cx="9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64653"/>
                </a:solidFill>
                <a:latin typeface="Arial"/>
              </a:rPr>
              <a:t>COE-REXECODE 1</a:t>
            </a:r>
            <a:r>
              <a:rPr b="0" i="1" lang="en-US" sz="1200" spc="-1" strike="noStrike" baseline="30000">
                <a:solidFill>
                  <a:srgbClr val="464653"/>
                </a:solidFill>
                <a:latin typeface="Arial"/>
              </a:rPr>
              <a:t>er</a:t>
            </a:r>
            <a:r>
              <a:rPr b="0" i="1" lang="en-US" sz="1200" spc="-1" strike="noStrike">
                <a:solidFill>
                  <a:srgbClr val="464653"/>
                </a:solidFill>
                <a:latin typeface="Arial"/>
              </a:rPr>
              <a:t> Déc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Espace réservé du numéro de diapositive 2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D9F-9426-4096-BE05-789BD1BCEFF9}" type="slidenum">
              <a:rPr b="0" lang="fr-FR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15800" y="2133720"/>
            <a:ext cx="90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trois sorcières et leurs trois utop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déséquilibre est à la base du développement économ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ette produit toujours de la rich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us les risques sont calcul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1024560" y="1628640"/>
            <a:ext cx="82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acbeth a rencontré trois sorcières ………le monde également en a croisé t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9E73-DC35-4059-A23D-24EC93F4848F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8520" y="1989000"/>
            <a:ext cx="89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système économique……………………. </a:t>
            </a:r>
            <a:r>
              <a:rPr b="0" lang="fr-FR" sz="2400" spc="-1" strike="noStrike">
                <a:solidFill>
                  <a:srgbClr val="c00000"/>
                </a:solidFill>
                <a:latin typeface="Gill Sans MT"/>
              </a:rPr>
              <a:t>face aux  sorciè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Pilier 1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: le commerce international……………………………….....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Pilier 2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 :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le système monétaire international (SMI)………………...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Greffon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le système bancaire et financier………..…………………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ZoneTexte 3"/>
          <p:cNvSpPr/>
          <p:nvPr/>
        </p:nvSpPr>
        <p:spPr>
          <a:xfrm>
            <a:off x="200160" y="1268280"/>
            <a:ext cx="95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ne organisation économique globale reposant sur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eux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piliers avec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greffon très développ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ZoneTexte 4"/>
          <p:cNvSpPr/>
          <p:nvPr/>
        </p:nvSpPr>
        <p:spPr>
          <a:xfrm>
            <a:off x="415800" y="5661000"/>
            <a:ext cx="92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 système monétaire intern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 dispositif le plus absent des grands débats de 1990 à 2008…et pourtant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Espace réservé du numéro de diapositive 1"/>
          <p:cNvSpPr/>
          <p:nvPr/>
        </p:nvSpPr>
        <p:spPr>
          <a:xfrm>
            <a:off x="631800" y="63817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D8E-C761-446D-95B1-C6B2181B01C9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8880" y="5157360"/>
            <a:ext cx="8856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6680" indent="-34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ill Sans MT"/>
              </a:rPr>
              <a:t>Le monde est bien au prise avec la tentation de Macbeth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6680" indent="-34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ill Sans MT"/>
              </a:rPr>
              <a:t>« …….s’extraire de réalité et vouloir atteindre dans l’instant ce qu’il pense être son but ultime…… 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ZoneTexte 5"/>
          <p:cNvSpPr/>
          <p:nvPr/>
        </p:nvSpPr>
        <p:spPr>
          <a:xfrm>
            <a:off x="560520" y="981000"/>
            <a:ext cx="89280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LA CRIS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ésultat de déséquilibres délibérés dans l’économie réelle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p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Acceptation des conséquen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délocalisa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Sous-activité structur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Distorsions des revenu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la montée généralisée de la 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d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fus des cycles économiques et des contraintes au profit de la vit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numéro de diapositive 5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F706-B527-494D-87C2-A4B0EC9DA547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88880" y="1298160"/>
            <a:ext cx="9244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Les relations / interactions entre les deux phénomè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985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L’économie mondiale depuis 1945 repose sur deux piliers 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985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Diagramme 3" descr=""/>
          <p:cNvPicPr/>
          <p:nvPr/>
        </p:nvPicPr>
        <p:blipFill>
          <a:blip r:embed="rId1"/>
          <a:stretch/>
        </p:blipFill>
        <p:spPr>
          <a:xfrm>
            <a:off x="79200" y="1951200"/>
            <a:ext cx="9704520" cy="3498840"/>
          </a:xfrm>
          <a:prstGeom prst="rect">
            <a:avLst/>
          </a:prstGeom>
          <a:ln w="0">
            <a:noFill/>
          </a:ln>
        </p:spPr>
      </p:pic>
      <p:grpSp>
        <p:nvGrpSpPr>
          <p:cNvPr id="420" name="Flèche vers le bas 1"/>
          <p:cNvGrpSpPr/>
          <p:nvPr/>
        </p:nvGrpSpPr>
        <p:grpSpPr>
          <a:xfrm>
            <a:off x="1908000" y="4273560"/>
            <a:ext cx="1043280" cy="317520"/>
            <a:chOff x="1908000" y="4273560"/>
            <a:chExt cx="1043280" cy="317520"/>
          </a:xfrm>
        </p:grpSpPr>
        <p:pic>
          <p:nvPicPr>
            <p:cNvPr id="421" name="Flèche vers le bas 1" descr=""/>
            <p:cNvPicPr/>
            <p:nvPr/>
          </p:nvPicPr>
          <p:blipFill>
            <a:blip r:embed="rId2"/>
            <a:stretch/>
          </p:blipFill>
          <p:spPr>
            <a:xfrm>
              <a:off x="1908000" y="4273560"/>
              <a:ext cx="10432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181240" y="4292640"/>
              <a:ext cx="50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4"/>
          <p:cNvGrpSpPr/>
          <p:nvPr/>
        </p:nvGrpSpPr>
        <p:grpSpPr>
          <a:xfrm>
            <a:off x="133200" y="4754520"/>
            <a:ext cx="4591080" cy="1060560"/>
            <a:chOff x="133200" y="4754520"/>
            <a:chExt cx="4591080" cy="1060560"/>
          </a:xfrm>
        </p:grpSpPr>
        <p:pic>
          <p:nvPicPr>
            <p:cNvPr id="424" name="Rectangle à coins arrondis 4" descr=""/>
            <p:cNvPicPr/>
            <p:nvPr/>
          </p:nvPicPr>
          <p:blipFill>
            <a:blip r:embed="rId3"/>
            <a:stretch/>
          </p:blipFill>
          <p:spPr>
            <a:xfrm>
              <a:off x="133200" y="4754520"/>
              <a:ext cx="45910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46240" y="4843440"/>
              <a:ext cx="4373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Déséquilibres structur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balances courant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Flèche vers le bas 14"/>
          <p:cNvGrpSpPr/>
          <p:nvPr/>
        </p:nvGrpSpPr>
        <p:grpSpPr>
          <a:xfrm>
            <a:off x="6937200" y="5284800"/>
            <a:ext cx="1036800" cy="317520"/>
            <a:chOff x="6937200" y="5284800"/>
            <a:chExt cx="1036800" cy="317520"/>
          </a:xfrm>
        </p:grpSpPr>
        <p:pic>
          <p:nvPicPr>
            <p:cNvPr id="427" name="Flèche vers le bas 14" descr=""/>
            <p:cNvPicPr/>
            <p:nvPr/>
          </p:nvPicPr>
          <p:blipFill>
            <a:blip r:embed="rId4"/>
            <a:stretch/>
          </p:blipFill>
          <p:spPr>
            <a:xfrm>
              <a:off x="6937200" y="5284800"/>
              <a:ext cx="10368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207200" y="5300640"/>
              <a:ext cx="504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Rectangle à coins arrondis 15"/>
          <p:cNvGrpSpPr/>
          <p:nvPr/>
        </p:nvGrpSpPr>
        <p:grpSpPr>
          <a:xfrm>
            <a:off x="5157720" y="5619600"/>
            <a:ext cx="4595760" cy="781200"/>
            <a:chOff x="5157720" y="5619600"/>
            <a:chExt cx="4595760" cy="781200"/>
          </a:xfrm>
        </p:grpSpPr>
        <p:pic>
          <p:nvPicPr>
            <p:cNvPr id="430" name="Rectangle à coins arrondis 15" descr=""/>
            <p:cNvPicPr/>
            <p:nvPr/>
          </p:nvPicPr>
          <p:blipFill>
            <a:blip r:embed="rId5"/>
            <a:stretch/>
          </p:blipFill>
          <p:spPr>
            <a:xfrm>
              <a:off x="5157720" y="5619600"/>
              <a:ext cx="45957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259240" y="5692680"/>
              <a:ext cx="4402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Les changes sont quasi fixes, sauf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Espace réservé du pied de page 8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t 1"/>
          <p:cNvGraphicFramePr/>
          <p:nvPr/>
        </p:nvGraphicFramePr>
        <p:xfrm>
          <a:off x="1100160" y="2050920"/>
          <a:ext cx="7149960" cy="40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0160" y="2050920"/>
                    <a:ext cx="714996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ZoneTexte 1"/>
          <p:cNvSpPr/>
          <p:nvPr/>
        </p:nvSpPr>
        <p:spPr>
          <a:xfrm>
            <a:off x="1180800" y="5938920"/>
            <a:ext cx="75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évènement externe au système mais sans régulation (feedback) syst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ZoneTexte 11"/>
          <p:cNvSpPr/>
          <p:nvPr/>
        </p:nvSpPr>
        <p:spPr>
          <a:xfrm>
            <a:off x="127080" y="907920"/>
            <a:ext cx="9661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e9e3e1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BFB-D742-412F-A725-EA8A819D316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60160" y="1163520"/>
            <a:ext cx="88563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éserves de change des banques centrales asiatiqu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Légende encadrée avec une bordure 3 2"/>
          <p:cNvSpPr/>
          <p:nvPr/>
        </p:nvSpPr>
        <p:spPr>
          <a:xfrm flipH="1">
            <a:off x="1712160" y="3429000"/>
            <a:ext cx="309564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6950" y="11509"/>
                </a:lnTo>
                <a:lnTo>
                  <a:pt x="-13092" y="260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2c7c3"/>
          </a:solidFill>
          <a:ln w="9360">
            <a:solidFill>
              <a:srgbClr val="6a56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erves d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ine + Japon + Corée +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1017720" y="1773360"/>
            <a:ext cx="83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S US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7454880" y="1773360"/>
            <a:ext cx="838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IB 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Espace réservé du pied de page 9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9905-4E15-4A94-998A-42248D40DEB3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88880" y="148428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La dette américaine théoriquement sous régulation (légale)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Gill Sans MT"/>
              </a:rPr>
              <a:t>QUO NON ASCENDET – Devise de l’Intendant Fouquet 1615-168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ZoneTexte 12"/>
          <p:cNvSpPr/>
          <p:nvPr/>
        </p:nvSpPr>
        <p:spPr>
          <a:xfrm>
            <a:off x="488880" y="109548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LA CRISE : Résultat d’évolutions incontrô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3" descr=""/>
          <p:cNvPicPr/>
          <p:nvPr/>
        </p:nvPicPr>
        <p:blipFill>
          <a:blip r:embed="rId1"/>
          <a:stretch/>
        </p:blipFill>
        <p:spPr>
          <a:xfrm>
            <a:off x="920880" y="2060640"/>
            <a:ext cx="7632720" cy="4321080"/>
          </a:xfrm>
          <a:prstGeom prst="rect">
            <a:avLst/>
          </a:prstGeom>
          <a:ln w="0">
            <a:noFill/>
          </a:ln>
        </p:spPr>
      </p:pic>
      <p:sp>
        <p:nvSpPr>
          <p:cNvPr id="447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Rectangle à coins arrondis 4"/>
          <p:cNvGrpSpPr/>
          <p:nvPr/>
        </p:nvGrpSpPr>
        <p:grpSpPr>
          <a:xfrm>
            <a:off x="463680" y="2249640"/>
            <a:ext cx="3565440" cy="438120"/>
            <a:chOff x="463680" y="2249640"/>
            <a:chExt cx="3565440" cy="438120"/>
          </a:xfrm>
        </p:grpSpPr>
        <p:pic>
          <p:nvPicPr>
            <p:cNvPr id="449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63680" y="2249640"/>
              <a:ext cx="3565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00040" y="2289240"/>
              <a:ext cx="3497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Maintien des déséquilibres (P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Rectangle à coins arrondis 14"/>
          <p:cNvGrpSpPr/>
          <p:nvPr/>
        </p:nvGrpSpPr>
        <p:grpSpPr>
          <a:xfrm>
            <a:off x="463680" y="2889360"/>
            <a:ext cx="3565440" cy="407880"/>
            <a:chOff x="463680" y="2889360"/>
            <a:chExt cx="3565440" cy="407880"/>
          </a:xfrm>
        </p:grpSpPr>
        <p:pic>
          <p:nvPicPr>
            <p:cNvPr id="452" name="Rectangle à coins arrondis 14" descr=""/>
            <p:cNvPicPr/>
            <p:nvPr/>
          </p:nvPicPr>
          <p:blipFill>
            <a:blip r:embed="rId2"/>
            <a:stretch/>
          </p:blipFill>
          <p:spPr>
            <a:xfrm>
              <a:off x="463680" y="2889360"/>
              <a:ext cx="356544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98600" y="2927520"/>
              <a:ext cx="3500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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Réserves de change (P2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Flèche droite 5"/>
          <p:cNvGrpSpPr/>
          <p:nvPr/>
        </p:nvGrpSpPr>
        <p:grpSpPr>
          <a:xfrm>
            <a:off x="4138560" y="2262240"/>
            <a:ext cx="682560" cy="431640"/>
            <a:chOff x="4138560" y="2262240"/>
            <a:chExt cx="682560" cy="431640"/>
          </a:xfrm>
        </p:grpSpPr>
        <p:pic>
          <p:nvPicPr>
            <p:cNvPr id="455" name="Flèche droite 5" descr=""/>
            <p:cNvPicPr/>
            <p:nvPr/>
          </p:nvPicPr>
          <p:blipFill>
            <a:blip r:embed="rId3"/>
            <a:stretch/>
          </p:blipFill>
          <p:spPr>
            <a:xfrm>
              <a:off x="4138560" y="2262240"/>
              <a:ext cx="6825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4159080" y="2378160"/>
              <a:ext cx="5493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à coins arrondis 17"/>
          <p:cNvSpPr/>
          <p:nvPr/>
        </p:nvSpPr>
        <p:spPr>
          <a:xfrm>
            <a:off x="4857840" y="2133720"/>
            <a:ext cx="29750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Cumul de réserves de change Banque centrale (P2)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à coins arrondis 19"/>
          <p:cNvSpPr/>
          <p:nvPr/>
        </p:nvSpPr>
        <p:spPr>
          <a:xfrm>
            <a:off x="4857840" y="2782800"/>
            <a:ext cx="29750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épôts Bancaires dans les systèmes US et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Rectangle à coins arrondis 27"/>
          <p:cNvGrpSpPr/>
          <p:nvPr/>
        </p:nvGrpSpPr>
        <p:grpSpPr>
          <a:xfrm>
            <a:off x="6151680" y="3425760"/>
            <a:ext cx="3247920" cy="523800"/>
            <a:chOff x="6151680" y="3425760"/>
            <a:chExt cx="3247920" cy="523800"/>
          </a:xfrm>
        </p:grpSpPr>
        <p:pic>
          <p:nvPicPr>
            <p:cNvPr id="460" name="Rectangle à coins arrondis 27" descr=""/>
            <p:cNvPicPr/>
            <p:nvPr/>
          </p:nvPicPr>
          <p:blipFill>
            <a:blip r:embed="rId4"/>
            <a:stretch/>
          </p:blipFill>
          <p:spPr>
            <a:xfrm>
              <a:off x="6151680" y="3425760"/>
              <a:ext cx="32479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262560" y="3486240"/>
              <a:ext cx="306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s dettes/cré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28"/>
          <p:cNvGrpSpPr/>
          <p:nvPr/>
        </p:nvGrpSpPr>
        <p:grpSpPr>
          <a:xfrm>
            <a:off x="3236760" y="5340240"/>
            <a:ext cx="3505320" cy="908280"/>
            <a:chOff x="3236760" y="5340240"/>
            <a:chExt cx="3505320" cy="908280"/>
          </a:xfrm>
        </p:grpSpPr>
        <p:pic>
          <p:nvPicPr>
            <p:cNvPr id="463" name="Rectangle à coins arrondis 28" descr=""/>
            <p:cNvPicPr/>
            <p:nvPr/>
          </p:nvPicPr>
          <p:blipFill>
            <a:blip r:embed="rId5"/>
            <a:stretch/>
          </p:blipFill>
          <p:spPr>
            <a:xfrm>
              <a:off x="3236760" y="5340240"/>
              <a:ext cx="35053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335400" y="5413320"/>
              <a:ext cx="33130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timulation de plus en plus forte de l’activité économ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29"/>
          <p:cNvGrpSpPr/>
          <p:nvPr/>
        </p:nvGrpSpPr>
        <p:grpSpPr>
          <a:xfrm>
            <a:off x="6151680" y="3925800"/>
            <a:ext cx="3247920" cy="523800"/>
            <a:chOff x="6151680" y="3925800"/>
            <a:chExt cx="3247920" cy="523800"/>
          </a:xfrm>
        </p:grpSpPr>
        <p:pic>
          <p:nvPicPr>
            <p:cNvPr id="466" name="Rectangle à coins arrondis 29" descr=""/>
            <p:cNvPicPr/>
            <p:nvPr/>
          </p:nvPicPr>
          <p:blipFill>
            <a:blip r:embed="rId6"/>
            <a:stretch/>
          </p:blipFill>
          <p:spPr>
            <a:xfrm>
              <a:off x="6151680" y="3925800"/>
              <a:ext cx="32479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6262560" y="3990960"/>
              <a:ext cx="3063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réation monét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30"/>
          <p:cNvGrpSpPr/>
          <p:nvPr/>
        </p:nvGrpSpPr>
        <p:grpSpPr>
          <a:xfrm>
            <a:off x="6151680" y="4400640"/>
            <a:ext cx="3247920" cy="525240"/>
            <a:chOff x="6151680" y="4400640"/>
            <a:chExt cx="3247920" cy="525240"/>
          </a:xfrm>
        </p:grpSpPr>
        <p:pic>
          <p:nvPicPr>
            <p:cNvPr id="469" name="Rectangle à coins arrondis 30" descr=""/>
            <p:cNvPicPr/>
            <p:nvPr/>
          </p:nvPicPr>
          <p:blipFill>
            <a:blip r:embed="rId7"/>
            <a:stretch/>
          </p:blipFill>
          <p:spPr>
            <a:xfrm>
              <a:off x="6151680" y="4400640"/>
              <a:ext cx="324792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262560" y="4464000"/>
              <a:ext cx="306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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s activités banca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15"/>
          <p:cNvGrpSpPr/>
          <p:nvPr/>
        </p:nvGrpSpPr>
        <p:grpSpPr>
          <a:xfrm>
            <a:off x="5894280" y="3449520"/>
            <a:ext cx="262080" cy="1487520"/>
            <a:chOff x="5894280" y="3449520"/>
            <a:chExt cx="262080" cy="1487520"/>
          </a:xfrm>
        </p:grpSpPr>
        <p:pic>
          <p:nvPicPr>
            <p:cNvPr id="472" name="Rectangle 15" descr=""/>
            <p:cNvPicPr/>
            <p:nvPr/>
          </p:nvPicPr>
          <p:blipFill>
            <a:blip r:embed="rId8"/>
            <a:stretch/>
          </p:blipFill>
          <p:spPr>
            <a:xfrm>
              <a:off x="5894280" y="3449520"/>
              <a:ext cx="262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56200" y="3486240"/>
              <a:ext cx="142920" cy="13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Forme en L 20"/>
          <p:cNvGrpSpPr/>
          <p:nvPr/>
        </p:nvGrpSpPr>
        <p:grpSpPr>
          <a:xfrm>
            <a:off x="5181480" y="3376440"/>
            <a:ext cx="762120" cy="1073160"/>
            <a:chOff x="5181480" y="3376440"/>
            <a:chExt cx="762120" cy="1073160"/>
          </a:xfrm>
        </p:grpSpPr>
        <p:pic>
          <p:nvPicPr>
            <p:cNvPr id="475" name="Forme en L 20" descr=""/>
            <p:cNvPicPr/>
            <p:nvPr/>
          </p:nvPicPr>
          <p:blipFill>
            <a:blip r:embed="rId9"/>
            <a:stretch/>
          </p:blipFill>
          <p:spPr>
            <a:xfrm>
              <a:off x="5181480" y="3376440"/>
              <a:ext cx="7621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240160" y="3414600"/>
              <a:ext cx="1368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Flèche vers le bas 21"/>
          <p:cNvGrpSpPr/>
          <p:nvPr/>
        </p:nvGrpSpPr>
        <p:grpSpPr>
          <a:xfrm>
            <a:off x="4614840" y="4675320"/>
            <a:ext cx="974880" cy="920520"/>
            <a:chOff x="4614840" y="4675320"/>
            <a:chExt cx="974880" cy="920520"/>
          </a:xfrm>
        </p:grpSpPr>
        <p:pic>
          <p:nvPicPr>
            <p:cNvPr id="478" name="Flèche vers le bas 21" descr=""/>
            <p:cNvPicPr/>
            <p:nvPr/>
          </p:nvPicPr>
          <p:blipFill>
            <a:blip r:embed="rId10"/>
            <a:stretch/>
          </p:blipFill>
          <p:spPr>
            <a:xfrm>
              <a:off x="4614840" y="4675320"/>
              <a:ext cx="9748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805280" y="4724280"/>
              <a:ext cx="2793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31"/>
          <p:cNvSpPr/>
          <p:nvPr/>
        </p:nvSpPr>
        <p:spPr>
          <a:xfrm>
            <a:off x="2048040" y="36162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space réservé du numéro de diapositive 1"/>
          <p:cNvSpPr/>
          <p:nvPr/>
        </p:nvSpPr>
        <p:spPr>
          <a:xfrm>
            <a:off x="704880" y="64087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5A0-19C5-475D-BCDE-844313C2B0E2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ZoneTexte 2"/>
          <p:cNvSpPr/>
          <p:nvPr/>
        </p:nvSpPr>
        <p:spPr>
          <a:xfrm>
            <a:off x="0" y="134316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processus de création monétaire identifié par Jacques Rueff (1931) et ses eff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 la base un dispositif d’échange international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tronqué (seuls les biens et services circulent entre zones monétai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a contrepartie monétaire du solde commercial reste en zone dollar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Flèche droite 18"/>
          <p:cNvGrpSpPr/>
          <p:nvPr/>
        </p:nvGrpSpPr>
        <p:grpSpPr>
          <a:xfrm>
            <a:off x="4138560" y="2865600"/>
            <a:ext cx="682560" cy="431640"/>
            <a:chOff x="4138560" y="2865600"/>
            <a:chExt cx="682560" cy="431640"/>
          </a:xfrm>
        </p:grpSpPr>
        <p:pic>
          <p:nvPicPr>
            <p:cNvPr id="484" name="Flèche droite 18" descr=""/>
            <p:cNvPicPr/>
            <p:nvPr/>
          </p:nvPicPr>
          <p:blipFill>
            <a:blip r:embed="rId11"/>
            <a:stretch/>
          </p:blipFill>
          <p:spPr>
            <a:xfrm>
              <a:off x="4138560" y="2865600"/>
              <a:ext cx="6825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4159080" y="2984400"/>
              <a:ext cx="5493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ZoneTexte 22"/>
          <p:cNvSpPr/>
          <p:nvPr/>
        </p:nvSpPr>
        <p:spPr>
          <a:xfrm>
            <a:off x="631800" y="4221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Un processus cumulatif toujours 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pied de page 2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517E-20BD-47F2-AFBB-85A11C60D4B7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Espace réservé du contenu 4"/>
          <p:cNvGraphicFramePr/>
          <p:nvPr/>
        </p:nvGraphicFramePr>
        <p:xfrm>
          <a:off x="1065240" y="1197000"/>
          <a:ext cx="79074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Espace réservé du contenu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197000"/>
                    <a:ext cx="79074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ZoneTexte 5"/>
          <p:cNvSpPr/>
          <p:nvPr/>
        </p:nvSpPr>
        <p:spPr>
          <a:xfrm>
            <a:off x="704880" y="530064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e explicatio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s revenus des activités qui permettent d’assumer la dette ont un poids relatif de plus en plus faible. L’économie devient de plus en plus sensible aux hausses de taux dire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pied de page 6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1:38:50Z</dcterms:created>
  <dc:creator>A22419</dc:creator>
  <dc:description/>
  <dc:language>en-US</dc:language>
  <cp:lastModifiedBy>fbl</cp:lastModifiedBy>
  <cp:lastPrinted>2011-12-01T09:43:18Z</cp:lastPrinted>
  <dcterms:modified xsi:type="dcterms:W3CDTF">2011-12-05T14:03:28Z</dcterms:modified>
  <cp:revision>189</cp:revision>
  <dc:subject/>
  <dc:title>Diapositive 1</dc:title>
</cp:coreProperties>
</file>