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3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96C5A2-5A0F-4F84-82BF-5EBE8CC81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168C92F-B167-4358-9B66-48949D82FCB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8BBBB-30E9-43F5-9626-EAFD0B16619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0A5BB3-B57E-48FA-856C-DDF20C05745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14C039-1CD9-4B34-B903-17AB9EA2FFC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11BD4E7-E0D8-4EBD-BF4B-22733E231930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FABDDF7-BECC-428F-84F4-EC46D06A16D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850B3-526B-4E43-8A6D-AC573F707E7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1B5F6-0FDB-4416-9565-67A83EFA2A1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63A64-A023-4D4D-A53A-B8AA3B2B62F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626B81-7D48-4615-AD4D-42DA4D17184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4ADB06-DCA7-40C8-AB22-869AC657248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49BBDF-A1C5-4221-AF7B-F5D1AA72BC8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FB315B2-A2AD-4AD4-A044-D4B82680C74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59F9F8-AB0A-4214-95B3-AF3A89D97D9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3D0-D500-476A-AA7E-5F41002E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63B-8329-4E8B-9706-B9F26DD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A3418-C0BC-4976-9129-A730B733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BFC4C-B477-4AE4-9B34-B806CE7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B4C75-7F2C-47B8-88FA-4A2E843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D9CD6-DE78-4B36-A70E-1376424F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2498F-C1AA-427E-9A05-FEA85A47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57BF7-E442-4D08-A07E-5AEC5D0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C4B07-221D-45D2-82E8-44F63FA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5A87A-3C25-44F0-915A-43C131EF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C33E-A5A8-4F40-998A-B8E1E550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16758-1331-4A5F-BD06-01EDA230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113-308E-40B6-BE4A-29EC935D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C1C67-62D5-4932-AEBB-4B122DC9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B70A7-13B3-4BD1-BA2A-28B2997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88BCF-8517-4AA1-A775-BA2A3A6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36C5-E9F1-4A72-BFDE-9D1F3B18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07E7E-EDEC-4428-8319-560CA7F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9060D-A84A-4FFB-997A-6E55EFB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8906E-76F6-48A7-99FA-8AA1446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E77A4-6045-4ED3-B244-EA2FE58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04431-5EED-475C-903B-298987F1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A7EA4-C23E-484B-8F2A-981F786D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A9E-4AB3-452E-AF6F-3E28C3EC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A9DFE-0D22-4FCE-9564-AD2588A4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DA9-20F1-4BBE-BF93-69D960A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994-C943-4382-8ED7-3643B87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F85-20D6-4D86-BEF0-0EEB19F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FAD-CE27-4360-8130-6C137D9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5FA1-9481-4158-B6F7-F209D961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7EA-6D0A-457A-B16C-7F2DB24D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36B3-3FA5-4440-BF69-876CBB9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217-077B-4A4B-BDFE-31EBEBB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9BBD-1AA9-407B-9039-A1B8FD7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B08F-E5F7-4321-ADC6-E3025BF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19C4-7724-45C4-BD35-A47E8D7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248-13A9-48CE-B835-5070D850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B7F-930A-483A-9F60-EB90A71A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7976-760B-40E1-AA41-008A6BF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59B22-9BCC-4362-9D05-85AEF50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9414-F8D3-44DA-874C-11116BDF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D529-4578-4701-AED3-DAEAC3D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2176-5CD5-422C-948E-0DDEA10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852-D4E7-40C9-A64A-1A7EDCD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8E22-BDBE-4217-8B1A-17E356A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53D6-CE41-4C20-8E32-4E657FE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2BA9-A381-4CB3-85A3-60DFF2B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B65B-796E-4AE2-B8EF-0EEF1E9A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EEFA-F308-4F49-9AC3-31AE2523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8A1F-2F1E-43C9-B179-07ADD9C8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1A17-A8D4-4079-97FC-64879ECC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AD73-4E44-42C7-A02B-AF26C04D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C70B-EE11-4905-9F94-C92455C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EF52-76C5-4449-AA7E-6B0F5EC6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937-DDF8-46CD-B075-AC07D128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E137-DA57-422F-AFFE-707D5CE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BB90-CF2A-405D-9816-BCC24E9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9DF6-B0D1-4303-B478-65671C6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BDA2-8F3D-4818-B650-198FD66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6B0F-55B8-4BF6-BB6B-38CBD21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AE7A-AF78-4D79-841D-029EDFCD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6F9F-DD7B-4DD4-AC54-F42A73B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3992-BD0D-4E2B-9C2D-419E2565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AAE0-333C-4309-8DBB-9E7691BB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50AE1-A020-47CC-89F6-4A42FB8C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6B1-FF31-4574-89D9-B51B9048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3CFA-BB4D-49FF-8D94-627BD31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6272-0024-43DA-BD3F-94F0FB91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6FCA-3655-4D4B-9C74-EF07836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A06B-8D33-449B-B942-07EEA6D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44E0-662C-4C6B-9989-AE15829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8CBF6-E842-48AC-B466-3FD0DFA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F5A2-AE31-4245-8076-7A34562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42BA-2001-4912-9DE7-F117CAC9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151F-C2DE-4CD2-ACF0-9C988733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A3F5-8BCB-4F49-9721-2AF8BB21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E36-5133-48C1-8AD4-E8A8C4F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D626-2D5F-471A-86C1-3080B2C2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4F52-4E3F-4C91-8CB8-7AA15CB5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0711-D90A-46A1-8DB4-46C65EA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81A3-19C9-4164-B09C-FEAE1FF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7C01D-E731-40DD-8163-6576F10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C3A9-8AAD-4207-AE10-0A0900CA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2E2F2-83F7-4E96-82A2-1729A396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7CF7-6DEA-4A45-829D-123A045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D74A3-559E-4B56-951F-75AFAEF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68659-CC2D-466C-844F-C5409BD0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E09-AEAB-4041-B55B-60219EA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32B2-3C34-45DE-89E3-5366D77B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C45D-0CDD-4689-B47F-9C7790BB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6340-C12A-40EF-AB1D-A3C42BA1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1E824-1070-4B6A-A2FC-99D051D1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FCEF-E016-4494-A2C1-AA49CB1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E23F-7EBB-4F3F-A988-20E9481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E47A-7A0A-4E3E-B200-F9D8977D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55DA-F708-4A7D-8759-7B8FBEBA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67700-1A04-403B-BEC8-A406102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4420-2005-4F8D-ADA0-C88B468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B71-D374-4244-9B2C-BF9B919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37952-EF02-4FC2-BEEE-EA61489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62CB-DE02-4238-B331-CE96206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1425-DFB2-423E-8ECF-B1BE7B21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975C-90F0-4D05-9CFE-71FA08DF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CE50-4352-40CE-BF17-FA468387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A6D1-39AA-4DE3-8F53-4E8FF149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E8663-66B4-4B0D-A172-EBF7F156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EC8B-A8F1-4C22-8029-63BE30A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87AA-76CD-4860-9750-03F7942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E2E6-C9FE-4716-8BF5-EB4F06DC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F87-8BE0-4234-A75F-6AC0817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53A4D-F60E-4F19-B41A-F681958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8F45-15C6-4511-8E3A-E8B8490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B499-B529-4F1A-B200-101C460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E0E91-3774-4B83-A860-FFDA0E4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BFA07-E11E-401B-80EA-8CB2B67E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BF03-1C86-48F6-8FF8-190C4367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98AB1-69D9-4DDF-B167-38C16C8E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ED270-9111-42C0-969B-F628C2E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AE88-26EC-4950-A2D8-CD3942DE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76E45-FB03-4A9F-AD27-8A68626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16 décembr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42D6-950D-4100-99DB-1FB1FD4D400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9 septembr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Perspectives de l’économie mond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3CFF-A7FA-4E10-9A85-8CB1A30F9F1D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308280"/>
            <a:ext cx="190476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895480" y="630828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08280"/>
            <a:ext cx="19051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92C5-1983-49C6-9B6B-83B47F92585B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07D-A1ED-4299-B2CC-B08392B1C9A6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FAC-DE57-49EB-BA6C-3E5F4A4FE18A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F25-7DA8-4700-971B-B42623902CFA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0A9-9298-4387-92DC-18B362FB5EBE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094-598B-46B4-81FD-38DF5D44DEB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610-08B7-454B-AA04-FFD37A88E223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mage 7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288720" cy="319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1b9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64a2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72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363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71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71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1b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850920" y="6248520"/>
            <a:ext cx="315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10920" y="6237000"/>
            <a:ext cx="3097080" cy="4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72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rial"/>
              </a:rPr>
              <a:t>Les Rencontres LSA - 3 octobre 2013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11972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 u="sng">
                <a:solidFill>
                  <a:srgbClr val="0071b9"/>
                </a:solidFill>
                <a:uFillTx/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7B0-41B3-4AB7-82F3-1EEBEA68D2D5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presentation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"/>
          <p:cNvSpPr/>
          <p:nvPr/>
        </p:nvSpPr>
        <p:spPr>
          <a:xfrm>
            <a:off x="539640" y="2349360"/>
            <a:ext cx="8282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72c6"/>
                </a:solidFill>
                <a:latin typeface="Avenir LT 85 Heavy"/>
                <a:ea typeface="ＭＳ Ｐゴシック"/>
              </a:rPr>
              <a:t>Conjoncture et perspectives économiques à l’horizon 201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224520" y="3997440"/>
            <a:ext cx="312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87511"/>
                </a:solidFill>
                <a:latin typeface="Avenir LT 85 Heavy"/>
                <a:ea typeface="ＭＳ Ｐゴシック"/>
              </a:rPr>
              <a:t>Les Rencontres L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87511"/>
                </a:solidFill>
                <a:latin typeface="Avenir LT 85 Heavy"/>
                <a:ea typeface="Arial"/>
              </a:rPr>
              <a:t>3 octobre 20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17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2c6"/>
                </a:solidFill>
                <a:latin typeface="Avenir LT 85 Heavy"/>
              </a:rPr>
              <a:t>Ralentissement des indices de salaires</a:t>
            </a:r>
            <a:endParaRPr b="1" i="1" lang="en-US" sz="24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250920" y="119700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0" name="Imag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471" name="Espace réservé du numéro de diapositive 5"/>
          <p:cNvSpPr/>
          <p:nvPr/>
        </p:nvSpPr>
        <p:spPr>
          <a:xfrm>
            <a:off x="7332840" y="6500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5AA-E251-451A-8D89-3F038F5B6FDD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9120" y="333360"/>
            <a:ext cx="88934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L’illustration du choc fiscal sur les ménages : le poids des prélèvements est à un sommet. + 1,8 point de revenu des ménages en l’espace de deux ans.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324000" y="134136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Espace réservé du numéro de diapositive 2"/>
          <p:cNvSpPr/>
          <p:nvPr/>
        </p:nvSpPr>
        <p:spPr>
          <a:xfrm>
            <a:off x="712008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77D2-83CD-41A4-9D2A-F7269162A37A}" type="slidenum">
              <a:rPr b="1" lang="fr-FR" sz="1400" spc="-1" strike="noStrike" u="sng">
                <a:solidFill>
                  <a:srgbClr val="0071b9"/>
                </a:solidFill>
                <a:uFillTx/>
                <a:latin typeface="Avenir LT 85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Image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475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2276640"/>
            <a:ext cx="86868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fr-FR" sz="2600" spc="-1" strike="noStrike">
                <a:solidFill>
                  <a:srgbClr val="0072c6"/>
                </a:solidFill>
                <a:latin typeface="Avenir LT 85 Heavy"/>
              </a:rPr>
              <a:t>Perspectives chiffrées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971640" y="3645000"/>
            <a:ext cx="7200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72c6"/>
                </a:solidFill>
                <a:latin typeface="Avenir LT 85 Heavy"/>
              </a:rPr>
              <a:t>Perspectives France</a:t>
            </a:r>
            <a:endParaRPr b="1" i="1" lang="en-US" sz="2800" spc="-1" strike="noStrike">
              <a:solidFill>
                <a:srgbClr val="0071b9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95280" y="1413000"/>
          <a:ext cx="8280360" cy="4624200"/>
        </p:xfrm>
        <a:graphic>
          <a:graphicData uri="http://schemas.openxmlformats.org/drawingml/2006/table">
            <a:tbl>
              <a:tblPr/>
              <a:tblGrid>
                <a:gridCol w="4464000"/>
                <a:gridCol w="1297080"/>
                <a:gridCol w="1368360"/>
                <a:gridCol w="1150920"/>
              </a:tblGrid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Taux de croissance du PI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   </a:t>
                      </a: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Cons. des ménag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0,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   </a:t>
                      </a: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FBCF producti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1,9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2,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1,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Taux d’infla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1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1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Actifs employés (sect. marchand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0,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35"/>
          <p:cNvSpPr/>
          <p:nvPr/>
        </p:nvSpPr>
        <p:spPr>
          <a:xfrm>
            <a:off x="539640" y="6093000"/>
            <a:ext cx="806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0072c6"/>
                </a:solidFill>
                <a:latin typeface="Avenir LT 55 Roman"/>
                <a:ea typeface="Arial"/>
              </a:rPr>
              <a:t>* Variation en % par an  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Espace réservé du numéro de diapositive 5"/>
          <p:cNvSpPr/>
          <p:nvPr/>
        </p:nvSpPr>
        <p:spPr>
          <a:xfrm>
            <a:off x="7480440" y="60930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EDB-E98C-4714-87C6-BF26695F8BFB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72c6"/>
                </a:solidFill>
                <a:latin typeface="Avenir LT 85 Heavy"/>
              </a:rPr>
              <a:t>Perspectives France</a:t>
            </a:r>
            <a:endParaRPr b="1" i="1" lang="en-US" sz="28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86" name="Text Box 35"/>
          <p:cNvSpPr/>
          <p:nvPr/>
        </p:nvSpPr>
        <p:spPr>
          <a:xfrm>
            <a:off x="539640" y="6093000"/>
            <a:ext cx="806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0072c6"/>
                </a:solidFill>
                <a:latin typeface="Avenir LT 55 Roman"/>
                <a:ea typeface="Arial"/>
              </a:rPr>
              <a:t>* Variation en % par an  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Espace réservé du numéro de diapositive 5"/>
          <p:cNvSpPr/>
          <p:nvPr/>
        </p:nvSpPr>
        <p:spPr>
          <a:xfrm>
            <a:off x="7480440" y="609300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7A9A-57F4-4279-BD41-FB8D1ABD35AC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395280" y="1413000"/>
          <a:ext cx="8064360" cy="4663800"/>
        </p:xfrm>
        <a:graphic>
          <a:graphicData uri="http://schemas.openxmlformats.org/drawingml/2006/table">
            <a:tbl>
              <a:tblPr/>
              <a:tblGrid>
                <a:gridCol w="4137120"/>
                <a:gridCol w="1390680"/>
                <a:gridCol w="1309680"/>
                <a:gridCol w="1226880"/>
              </a:tblGrid>
              <a:tr h="97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0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Pouvoir d’achat du revenu des ménag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0,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Taux de marge des SN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8,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8,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28,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Solde du compte des APU </a:t>
                      </a:r>
                      <a:br>
                        <a:rPr sz="2200"/>
                      </a:b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(% du PIB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4,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4,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3,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 baseline="30000">
                          <a:solidFill>
                            <a:srgbClr val="0072c6"/>
                          </a:solidFill>
                          <a:latin typeface="Avenir LT 55 Roman"/>
                        </a:rPr>
                        <a:t>Solde de la balance courante (en % du PIB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2,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1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72c6"/>
                          </a:solidFill>
                          <a:latin typeface="Avenir LT 55 Roman"/>
                        </a:rPr>
                        <a:t>-1,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47a00"/>
                      </a:solidFill>
                    </a:lnL>
                    <a:lnR w="5760">
                      <a:solidFill>
                        <a:srgbClr val="f47a00"/>
                      </a:solidFill>
                    </a:lnR>
                    <a:lnT w="5760">
                      <a:solidFill>
                        <a:srgbClr val="f47a00"/>
                      </a:solidFill>
                    </a:lnT>
                    <a:lnB w="5760">
                      <a:solidFill>
                        <a:srgbClr val="f47a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Six raisons d’optimisme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611280" y="1413000"/>
            <a:ext cx="806436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a détente des spreads de taux Italie-Espag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 climat des affaires dans la zone euro comme en France n’est plus en territoire néga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Remontée des marchés bours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a croissance est installée aux Etats-Unis et la falaise fiscale en passe d’être franc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s prix de l’immobilier poursuivent leur rattrapage aux Etats-U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a croissance chinoise est à un point bas par rapport au passé, mais toujours haute par rapport au reste du m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BDA7-80D5-4229-AEEC-A0773123BE4D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Espace réservé du pied de page 3"/>
          <p:cNvSpPr/>
          <p:nvPr/>
        </p:nvSpPr>
        <p:spPr>
          <a:xfrm>
            <a:off x="611280" y="6273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Six raisons pour rester prudent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611280" y="1413000"/>
            <a:ext cx="806436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s prêts au secteur privé se contractent toujours en zone euro. Les créances douteuses mont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’investissement reste orienté à la baisse en zone euro comme en Fr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 climat des affaires dans la construction est très médiocre (ZE et Fran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s divergences persistent entre pays de la zone euro. En particulier entre les trajectoires franco-allemandes de dette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Retour du risque dans les émer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venir LT 85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’impact de la hausse de taux longs aux Etats-U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046-724E-4947-9296-53EF58E80435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Espace réservé du pied de page 3"/>
          <p:cNvSpPr/>
          <p:nvPr/>
        </p:nvSpPr>
        <p:spPr>
          <a:xfrm>
            <a:off x="611280" y="6273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Le scénario économique central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41" name="Line 3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11280" y="1341360"/>
            <a:ext cx="806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es émergents devraient trouver un nouveau régime de croissance (plus faible qu’auparavant avec un risque de rup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Il n’y a pas d’obstacle véritable à la croissance </a:t>
            </a:r>
            <a:br>
              <a:rPr sz="2400"/>
            </a:b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aux Etats-U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La zone euro reste en arrière (croissance) et fragile (stabilit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Il faut encore piloter la sortie des politiques économiques extrê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47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Espace réservé du pied de page 3"/>
          <p:cNvSpPr/>
          <p:nvPr/>
        </p:nvSpPr>
        <p:spPr>
          <a:xfrm>
            <a:off x="611280" y="6273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Espace réservé du numéro de diapositive 5"/>
          <p:cNvSpPr/>
          <p:nvPr/>
        </p:nvSpPr>
        <p:spPr>
          <a:xfrm>
            <a:off x="7332840" y="6284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A4A-E8C4-4C7F-8B51-DF965A4A8F08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01640" y="5157720"/>
            <a:ext cx="7993080" cy="825480"/>
          </a:xfrm>
          <a:prstGeom prst="rect">
            <a:avLst/>
          </a:prstGeom>
          <a:noFill/>
          <a:ln w="9360">
            <a:solidFill>
              <a:srgbClr val="f47a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On peut être un peu plus confiant sur l’économie. </a:t>
            </a:r>
            <a:br>
              <a:rPr sz="2400"/>
            </a:br>
            <a:r>
              <a:rPr b="0" lang="fr-FR" sz="2400" spc="-1" strike="noStrike">
                <a:solidFill>
                  <a:srgbClr val="0071b9"/>
                </a:solidFill>
                <a:latin typeface="Avenir LT 85 Heavy"/>
              </a:rPr>
              <a:t>Il est trop tôt pour quitter une posture prud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2276280"/>
            <a:ext cx="8686800" cy="11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2c6"/>
                </a:solidFill>
                <a:latin typeface="Avenir LT 85 Heavy"/>
              </a:rPr>
              <a:t>Des anticipations médiocres sur la trajectoire de la consommation des ménages en France</a:t>
            </a:r>
            <a:endParaRPr b="1" i="1" lang="en-US" sz="32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971640" y="3645000"/>
            <a:ext cx="7200720" cy="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333360"/>
            <a:ext cx="88934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Une consommation de produits manufacturés </a:t>
            </a:r>
            <a:br>
              <a:rPr sz="2600"/>
            </a:b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à plat depuis 2007.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324000" y="134136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Espace réservé du numéro de diapositive 2"/>
          <p:cNvSpPr/>
          <p:nvPr/>
        </p:nvSpPr>
        <p:spPr>
          <a:xfrm>
            <a:off x="712008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684-3E26-488D-84AD-FD4CDD180A00}" type="slidenum">
              <a:rPr b="1" lang="fr-FR" sz="1400" spc="-1" strike="noStrike" u="sng">
                <a:solidFill>
                  <a:srgbClr val="0071b9"/>
                </a:solidFill>
                <a:uFillTx/>
                <a:latin typeface="Avenir LT 85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Image 1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4680000"/>
          </a:xfrm>
          <a:prstGeom prst="rect">
            <a:avLst/>
          </a:prstGeom>
          <a:ln w="0">
            <a:noFill/>
          </a:ln>
        </p:spPr>
      </p:pic>
      <p:sp>
        <p:nvSpPr>
          <p:cNvPr id="452" name="Espace réservé du pied de page 3"/>
          <p:cNvSpPr/>
          <p:nvPr/>
        </p:nvSpPr>
        <p:spPr>
          <a:xfrm>
            <a:off x="611280" y="6273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1b9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9120" y="333360"/>
            <a:ext cx="88934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L’écart des niveaux de consommation par habitant entre la France et l’Allemagne se creuse. Il est la conséquence de l’écart croissant des PIB / habitant.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324000" y="134136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Espace réservé du numéro de diapositive 2"/>
          <p:cNvSpPr/>
          <p:nvPr/>
        </p:nvSpPr>
        <p:spPr>
          <a:xfrm>
            <a:off x="712008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2C20-C9EF-4F9C-A246-1E719B33075F}" type="slidenum">
              <a:rPr b="1" lang="fr-FR" sz="1400" spc="-1" strike="noStrike" u="sng">
                <a:solidFill>
                  <a:srgbClr val="0071b9"/>
                </a:solidFill>
                <a:uFillTx/>
                <a:latin typeface="Avenir LT 85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Image 3" descr=""/>
          <p:cNvPicPr/>
          <p:nvPr/>
        </p:nvPicPr>
        <p:blipFill>
          <a:blip r:embed="rId1"/>
          <a:stretch/>
        </p:blipFill>
        <p:spPr>
          <a:xfrm>
            <a:off x="812880" y="1341360"/>
            <a:ext cx="744696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16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Le recul du pouvoir d’achat du revenu des ménages s’est ralenti en relation avec la faible inflation </a:t>
            </a:r>
            <a:br>
              <a:rPr sz="2600"/>
            </a:br>
            <a:r>
              <a:rPr b="0" lang="fr-FR" sz="2600" spc="-1" strike="noStrike">
                <a:solidFill>
                  <a:srgbClr val="0071b9"/>
                </a:solidFill>
                <a:latin typeface="Avenir LT 85 Heavy"/>
              </a:rPr>
              <a:t>début 2013.</a:t>
            </a:r>
            <a:endParaRPr b="1" i="1" lang="en-US" sz="2600" spc="-1" strike="noStrike">
              <a:solidFill>
                <a:srgbClr val="0071b9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24000" y="134136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7120080" y="624852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B62E-0EFC-4D34-8155-68F4692835E8}" type="slidenum">
              <a:rPr b="1" lang="fr-FR" sz="1400" spc="-1" strike="noStrike" u="sng">
                <a:solidFill>
                  <a:srgbClr val="0071b9"/>
                </a:solidFill>
                <a:uFillTx/>
                <a:latin typeface="Avenir LT 85 Heavy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Image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3"/>
          <p:cNvSpPr/>
          <p:nvPr/>
        </p:nvSpPr>
        <p:spPr>
          <a:xfrm>
            <a:off x="250920" y="1125360"/>
            <a:ext cx="842472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1400" y="188640"/>
            <a:ext cx="903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2c6"/>
                </a:solidFill>
                <a:latin typeface="Avenir LT 85 Heavy"/>
              </a:rPr>
              <a:t>L’affaiblissement du rythme d’inflation ne se prolongerait pas.</a:t>
            </a:r>
            <a:endParaRPr b="1" i="1" lang="en-US" sz="2200" spc="-1" strike="noStrike">
              <a:solidFill>
                <a:srgbClr val="0071b9"/>
              </a:solidFill>
              <a:latin typeface="Arial"/>
            </a:endParaRPr>
          </a:p>
        </p:txBody>
      </p:sp>
      <p:pic>
        <p:nvPicPr>
          <p:cNvPr id="465" name="Imag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424720" cy="4897440"/>
          </a:xfrm>
          <a:prstGeom prst="rect">
            <a:avLst/>
          </a:prstGeom>
          <a:ln w="0">
            <a:noFill/>
          </a:ln>
        </p:spPr>
      </p:pic>
      <p:sp>
        <p:nvSpPr>
          <p:cNvPr id="466" name="Espace réservé du numéro de diapositive 5"/>
          <p:cNvSpPr/>
          <p:nvPr/>
        </p:nvSpPr>
        <p:spPr>
          <a:xfrm>
            <a:off x="7332840" y="6500880"/>
            <a:ext cx="15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6094-DC4E-4037-9DA8-329FDDD2BA1F}" type="slidenum">
              <a:rPr b="1" lang="fr-FR" sz="1400" spc="-1" strike="noStrike" u="sng">
                <a:solidFill>
                  <a:srgbClr val="0071b9"/>
                </a:solidFill>
                <a:uFillTx/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Espace réservé du pied de page 4"/>
          <p:cNvSpPr/>
          <p:nvPr/>
        </p:nvSpPr>
        <p:spPr>
          <a:xfrm>
            <a:off x="539640" y="624852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72c6"/>
                </a:solidFill>
                <a:latin typeface="Avenir LT 85 Heavy"/>
              </a:rPr>
              <a:t>Les Rencontres LSA - 3 octobre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8:05:00Z</dcterms:created>
  <dc:creator>Denis Ferrand</dc:creator>
  <dc:description/>
  <dc:language>en-US</dc:language>
  <cp:lastModifiedBy>Fabienne Besson-Lhoste</cp:lastModifiedBy>
  <cp:lastPrinted>2013-10-02T18:01:21Z</cp:lastPrinted>
  <dcterms:modified xsi:type="dcterms:W3CDTF">2013-10-08T07:39:28Z</dcterms:modified>
  <cp:revision>6</cp:revision>
  <dc:subject/>
  <dc:title>Conjoncture et perspectives économiques à l’horizon 2015 - Conférence LSA, Octobre 20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mentaires">
    <vt:lpwstr>Présentation aux rencontres annuelles de LSA sur les perspectives de la consommation en France</vt:lpwstr>
  </property>
  <property fmtid="{D5CDD505-2E9C-101B-9397-08002B2CF9AE}" pid="3" name="ContentTypeId">
    <vt:lpwstr>0x010100C83357A4D41FBF4BABA864F1D75E548200E7CAE571AE6B5F4CBF586D2DACF73DFA</vt:lpwstr>
  </property>
  <property fmtid="{D5CDD505-2E9C-101B-9397-08002B2CF9AE}" pid="4" name="Contributeur(s)">
    <vt:lpwstr>31;#DOM_REXECODE\dfe</vt:lpwstr>
  </property>
  <property fmtid="{D5CDD505-2E9C-101B-9397-08002B2CF9AE}" pid="5" name="Date_Evènement0">
    <vt:lpwstr>2013-10-03T00:00:00Z</vt:lpwstr>
  </property>
  <property fmtid="{D5CDD505-2E9C-101B-9397-08002B2CF9AE}" pid="6" name="Evènement0">
    <vt:lpwstr>Rencontres LSA</vt:lpwstr>
  </property>
  <property fmtid="{D5CDD505-2E9C-101B-9397-08002B2CF9AE}" pid="7" name="Lieu_Evènement0">
    <vt:lpwstr>Salle Wagram</vt:lpwstr>
  </property>
  <property fmtid="{D5CDD505-2E9C-101B-9397-08002B2CF9AE}" pid="8" name="Pôle(s) concerné(s)">
    <vt:lpwstr>;#Pôle Conjoncture;#</vt:lpwstr>
  </property>
  <property fmtid="{D5CDD505-2E9C-101B-9397-08002B2CF9AE}" pid="9" name="TaxCatchAll">
    <vt:lpwstr/>
  </property>
  <property fmtid="{D5CDD505-2E9C-101B-9397-08002B2CF9AE}" pid="10" name="_dlc_DocId">
    <vt:lpwstr>COEREX-144-61</vt:lpwstr>
  </property>
  <property fmtid="{D5CDD505-2E9C-101B-9397-08002B2CF9AE}" pid="11" name="_dlc_DocIdItemGuid">
    <vt:lpwstr>553e31d9-7b2e-4feb-b405-575bcc07161e</vt:lpwstr>
  </property>
  <property fmtid="{D5CDD505-2E9C-101B-9397-08002B2CF9AE}" pid="12" name="_dlc_DocIdUrl">
    <vt:lpwstr>https://sp-2010:15731/CentreDoc/_layouts/DocIdRedir.aspx?ID=COEREX-144-61, COEREX-144-61</vt:lpwstr>
  </property>
  <property fmtid="{D5CDD505-2E9C-101B-9397-08002B2CF9AE}" pid="13" name="n8659f26489a4fad9d6f6b520c1a50c2">
    <vt:lpwstr/>
  </property>
</Properties>
</file>