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17280" y="74268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5853F-D7DB-44D8-9674-40226D4A10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AC36A-C0BD-4E89-8DF3-BA9367FC19E7}" type="slidenum"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E79A5A-268A-4485-BC8A-188625712708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C7AC51-336E-40E8-BE65-2B80EE7BE2D3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68B0D5-26EE-42A6-89A0-C5B4C75EBAFC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27386C-E4AA-4A61-8C37-CB6917F1EF56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3B0530-0E21-46A9-A454-1B2027FBDDFE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9E6067-146A-4BAE-88B7-0CE2BA57A84E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27D26-C8DF-4CDC-BFF1-8A0BCA9D92A3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7E7185-9C37-4AA7-A5A9-4E150C002ED3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1C5554-E634-4952-841D-6D095C952B55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7081DE-A3E6-4932-A1F2-B775AA216034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10019E-C291-4CD0-809D-415820B670E7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59C8DB9-837A-49F3-9F8E-B2B12E3A64C7}" type="slidenum">
              <a:rPr b="0" lang="fr-FR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0F37-1142-446D-9371-7C467BDF5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BC10-14F3-434C-8B8C-9E2F94880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BD6F-8DE8-4F88-8976-34B27FEC1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0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0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3856-B59F-41CA-867D-AD28AB18F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25D60-2F66-4683-B6C9-43D68EC9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01BCB-1421-478C-952D-9CE9E65E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47443-7E63-465F-9241-0A51AFDB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94E4B-AF11-4516-B0F5-17C09A9A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55550-6F9A-4AE6-B5C1-8265E5A6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C65E8-B2F0-4ED0-9D07-D6464123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DE54B-57A2-46CC-B497-7637A69C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1FB5-504D-47F7-B1F6-7ADDB2B00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5DB39-9657-4D09-A7DC-C17F3520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7A054-D042-49A9-A57F-01AA303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9EC0A-F492-4554-9299-FC04C529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3DB0A-7FF1-4626-BAFD-856175B9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10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10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02B59-5144-4B7D-88BB-B0056D8C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D096-E2C9-4FE5-B132-EC6FD6A6D3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9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10000" y="19162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9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10000" y="40658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8554-B8B2-45DC-AB92-312F02735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2C16-E324-4C99-B8E1-BDB204E3A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A2D8-4CEE-438D-B7AD-BA4B8CBBB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9FFC5-55D2-4950-A660-77C0EC38C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9320" y="40658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5284-8208-4B5F-B1C3-811CE9C49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9320" y="19162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" y="40658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C68F1-7EE8-42F2-90DC-F3C08005B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0560" y="623736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1b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rial"/>
              </a:rPr>
              <a:t>Medef – Commission Economie du 25 juin 2009</a:t>
            </a:r>
            <a:r>
              <a:rPr b="0" i="1" lang="fr-FR" sz="1200" spc="-1" strike="noStrike">
                <a:solidFill>
                  <a:srgbClr val="0071b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1972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 u="sng">
                <a:solidFill>
                  <a:srgbClr val="0071b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B183-4A19-4E24-8F6C-22CDE5D3BD44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16 janvi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1321-E268-4842-BFCE-BFAC5A2033A3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000" y="19162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5148000" y="6237360"/>
            <a:ext cx="315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18 septembre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250560" y="623736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1b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rial"/>
              </a:rPr>
              <a:t>Conjoncture des services en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resentation1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555480" y="2060640"/>
            <a:ext cx="8282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72c6"/>
                </a:solidFill>
                <a:latin typeface="Avenir LT 85 Heavy"/>
                <a:ea typeface="MS PGothic"/>
              </a:rPr>
              <a:t>Perspectives économiques </a:t>
            </a:r>
            <a:br>
              <a:rPr sz="3400"/>
            </a:br>
            <a:r>
              <a:rPr b="1" lang="fr-FR" sz="3400" spc="-1" strike="noStrike">
                <a:solidFill>
                  <a:srgbClr val="0072c6"/>
                </a:solidFill>
                <a:latin typeface="Avenir LT 85 Heavy"/>
                <a:ea typeface="MS PGothic"/>
              </a:rPr>
              <a:t>des Etats-Unis</a:t>
            </a:r>
            <a:endParaRPr b="0" lang="en-US" sz="3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992240" y="3284640"/>
            <a:ext cx="5648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Avenir LT 55 Roman"/>
                <a:ea typeface="MS PGothic"/>
              </a:rPr>
              <a:t>Chambre de Commerce et d’Industrie </a:t>
            </a:r>
            <a:br>
              <a:rPr sz="2400"/>
            </a:br>
            <a:r>
              <a:rPr b="0" lang="fr-FR" sz="2400" spc="-1" strike="noStrike">
                <a:solidFill>
                  <a:srgbClr val="cc0000"/>
                </a:solidFill>
                <a:latin typeface="Avenir LT 55 Roman"/>
                <a:ea typeface="MS PGothic"/>
              </a:rPr>
              <a:t>de Paris Ile-de-France</a:t>
            </a:r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venir LT 85 Heav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Avenir LT 55 Roman"/>
                <a:ea typeface="Arial"/>
              </a:rPr>
              <a:t>Paris, 29 janvier 2013</a:t>
            </a:r>
            <a:endParaRPr b="0" lang="en-US" sz="18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31" name="Image 1" descr=""/>
          <p:cNvPicPr/>
          <p:nvPr/>
        </p:nvPicPr>
        <p:blipFill>
          <a:blip r:embed="rId2"/>
          <a:stretch/>
        </p:blipFill>
        <p:spPr>
          <a:xfrm>
            <a:off x="6392880" y="4797360"/>
            <a:ext cx="2504880" cy="17272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4320" y="115920"/>
            <a:ext cx="8613720" cy="100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… </a:t>
            </a: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en relation avec une situation financière des entreprises confortable.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75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76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4C14-33C1-482B-9D9F-5FD3B143C75B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78" name="Image 1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440560" cy="490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040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2c6"/>
                </a:solidFill>
                <a:latin typeface="Avenir LT 85 Heavy"/>
              </a:rPr>
              <a:t>La situation de bilan des ménages </a:t>
            </a:r>
            <a:br>
              <a:rPr sz="2400"/>
            </a:br>
            <a:r>
              <a:rPr b="0" lang="fr-FR" sz="2400" spc="-1" strike="noStrike">
                <a:solidFill>
                  <a:srgbClr val="0072c6"/>
                </a:solidFill>
                <a:latin typeface="Avenir LT 85 Heavy"/>
              </a:rPr>
              <a:t>a été significativement assainie</a:t>
            </a:r>
            <a:endParaRPr b="1" i="1" lang="en-US" sz="2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214200" y="1197000"/>
            <a:ext cx="842508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81" name="Image 1" descr=""/>
          <p:cNvPicPr/>
          <p:nvPr/>
        </p:nvPicPr>
        <p:blipFill>
          <a:blip r:embed="rId1"/>
          <a:stretch/>
        </p:blipFill>
        <p:spPr>
          <a:xfrm>
            <a:off x="243000" y="1197000"/>
            <a:ext cx="8658000" cy="5121360"/>
          </a:xfrm>
          <a:prstGeom prst="rect">
            <a:avLst/>
          </a:prstGeom>
          <a:ln w="0">
            <a:noFill/>
          </a:ln>
        </p:spPr>
      </p:pic>
      <p:sp>
        <p:nvSpPr>
          <p:cNvPr id="182" name="Espace réservé du pied de page 3"/>
          <p:cNvSpPr/>
          <p:nvPr/>
        </p:nvSpPr>
        <p:spPr>
          <a:xfrm>
            <a:off x="274680" y="6211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83" name="Espace réservé du numéro de diapositive 5"/>
          <p:cNvSpPr/>
          <p:nvPr/>
        </p:nvSpPr>
        <p:spPr>
          <a:xfrm>
            <a:off x="7332840" y="62118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CBD5-0F73-49B4-AC92-05C6ED381304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Le ratio Dette / Valeur des actifs immobiliers des ménages s’est orienté à la baisse.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5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86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984D-AFE6-48EF-87D6-5424713B49F8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88" name="Image 1" descr=""/>
          <p:cNvPicPr/>
          <p:nvPr/>
        </p:nvPicPr>
        <p:blipFill>
          <a:blip r:embed="rId1"/>
          <a:stretch/>
        </p:blipFill>
        <p:spPr>
          <a:xfrm>
            <a:off x="571680" y="1185840"/>
            <a:ext cx="8215200" cy="496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Le redressement de l’activité de la construction résidentielle se confirme mois après mois.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pic>
        <p:nvPicPr>
          <p:cNvPr id="190" name="Image 2" descr=""/>
          <p:cNvPicPr/>
          <p:nvPr/>
        </p:nvPicPr>
        <p:blipFill>
          <a:blip r:embed="rId1"/>
          <a:stretch/>
        </p:blipFill>
        <p:spPr>
          <a:xfrm>
            <a:off x="237960" y="1341360"/>
            <a:ext cx="8668080" cy="4797360"/>
          </a:xfrm>
          <a:prstGeom prst="rect">
            <a:avLst/>
          </a:prstGeom>
          <a:ln w="0">
            <a:noFill/>
          </a:ln>
        </p:spPr>
      </p:pic>
      <p:sp>
        <p:nvSpPr>
          <p:cNvPr id="191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92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31CB-8F66-45F4-9E84-D5540BC8D7D8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Le marché du travail reste dégradé au regard des standards américains (taux de chômage à environ 8 %).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95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96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D3D7-5850-4652-8CEE-592478A096F8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98" name="Image 1" descr=""/>
          <p:cNvPicPr/>
          <p:nvPr/>
        </p:nvPicPr>
        <p:blipFill>
          <a:blip r:embed="rId1"/>
          <a:stretch/>
        </p:blipFill>
        <p:spPr>
          <a:xfrm>
            <a:off x="361800" y="1341360"/>
            <a:ext cx="8507520" cy="491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Du mieux du côté de l’équilibre extérieur : réduction du déficit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0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01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BD1E-9975-4242-BCAB-622578C97C41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203" name="Image 1" descr=""/>
          <p:cNvPicPr/>
          <p:nvPr/>
        </p:nvPicPr>
        <p:blipFill>
          <a:blip r:embed="rId1"/>
          <a:stretch/>
        </p:blipFill>
        <p:spPr>
          <a:xfrm>
            <a:off x="395280" y="1247760"/>
            <a:ext cx="8424720" cy="484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Amélioration du taux de couverture des importations par les exportations. A quand l’autosuffisance en matière de produits pétroliers ?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5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06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3534-D91F-474A-A833-5054FCA25C35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208" name="Image 1" descr=""/>
          <p:cNvPicPr/>
          <p:nvPr/>
        </p:nvPicPr>
        <p:blipFill>
          <a:blip r:embed="rId1"/>
          <a:stretch/>
        </p:blipFill>
        <p:spPr>
          <a:xfrm>
            <a:off x="344520" y="992160"/>
            <a:ext cx="8626320" cy="526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08000" y="333360"/>
            <a:ext cx="9036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2c6"/>
                </a:solidFill>
                <a:latin typeface="Avenir LT 85 Heavy"/>
              </a:rPr>
              <a:t>Zone euro, Etats-Unis : Deux situations incomparables du point de vue des trajectoires économiques récentes.</a:t>
            </a:r>
            <a:endParaRPr b="0" lang="en-US" sz="26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33" name="Espace réservé du pied de page 3"/>
          <p:cNvSpPr/>
          <p:nvPr/>
        </p:nvSpPr>
        <p:spPr>
          <a:xfrm>
            <a:off x="274680" y="6211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34" name="Image 2" descr=""/>
          <p:cNvPicPr/>
          <p:nvPr/>
        </p:nvPicPr>
        <p:blipFill>
          <a:blip r:embed="rId1"/>
          <a:stretch/>
        </p:blipFill>
        <p:spPr>
          <a:xfrm>
            <a:off x="243000" y="1484280"/>
            <a:ext cx="8658000" cy="4834080"/>
          </a:xfrm>
          <a:prstGeom prst="rect">
            <a:avLst/>
          </a:prstGeom>
          <a:ln w="0">
            <a:noFill/>
          </a:ln>
        </p:spPr>
      </p:pic>
      <p:sp>
        <p:nvSpPr>
          <p:cNvPr id="135" name="Ellipse 5"/>
          <p:cNvSpPr/>
          <p:nvPr/>
        </p:nvSpPr>
        <p:spPr>
          <a:xfrm>
            <a:off x="6804000" y="2349360"/>
            <a:ext cx="1997280" cy="1871640"/>
          </a:xfrm>
          <a:prstGeom prst="ellipse">
            <a:avLst/>
          </a:prstGeom>
          <a:noFill/>
          <a:ln w="1908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250920" y="1268280"/>
            <a:ext cx="8424720" cy="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7332840" y="62118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7A47-AE50-4025-9362-C9E629B7004D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040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2c6"/>
                </a:solidFill>
                <a:latin typeface="Avenir LT 85 Heavy"/>
              </a:rPr>
              <a:t>Le décalage précédent s’explique en particulier par le décrochage des ventes au détail en zone euro. Elles ont dépassé leur point haut aux Etats-Unis.</a:t>
            </a:r>
            <a:endParaRPr b="1" i="1" lang="en-US" sz="2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14200" y="1197000"/>
            <a:ext cx="842508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40" name="Image 2" descr=""/>
          <p:cNvPicPr/>
          <p:nvPr/>
        </p:nvPicPr>
        <p:blipFill>
          <a:blip r:embed="rId1"/>
          <a:stretch/>
        </p:blipFill>
        <p:spPr>
          <a:xfrm>
            <a:off x="274680" y="1268280"/>
            <a:ext cx="8731080" cy="5040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274680" y="6211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7332840" y="62118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408F-29FB-4950-8FD5-33E9635C42F3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43" name="Connecteur droit 4"/>
          <p:cNvSpPr/>
          <p:nvPr/>
        </p:nvSpPr>
        <p:spPr>
          <a:xfrm>
            <a:off x="3851280" y="2421000"/>
            <a:ext cx="40338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040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2c6"/>
                </a:solidFill>
                <a:latin typeface="Avenir LT 85 Heavy"/>
              </a:rPr>
              <a:t>Le cycle de l’investissement se poursuit aux Etats-Unis, mais à un rythme plus modéré. Il a déjà avorté en zone euro.</a:t>
            </a:r>
            <a:endParaRPr b="1" i="1" lang="en-US" sz="2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214200" y="1197000"/>
            <a:ext cx="842508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46" name="Image 1" descr=""/>
          <p:cNvPicPr/>
          <p:nvPr/>
        </p:nvPicPr>
        <p:blipFill>
          <a:blip r:embed="rId1"/>
          <a:stretch/>
        </p:blipFill>
        <p:spPr>
          <a:xfrm>
            <a:off x="243000" y="1197000"/>
            <a:ext cx="8658000" cy="5121360"/>
          </a:xfrm>
          <a:prstGeom prst="rect">
            <a:avLst/>
          </a:prstGeom>
          <a:ln w="0">
            <a:noFill/>
          </a:ln>
        </p:spPr>
      </p:pic>
      <p:sp>
        <p:nvSpPr>
          <p:cNvPr id="147" name="Espace réservé du pied de page 3"/>
          <p:cNvSpPr/>
          <p:nvPr/>
        </p:nvSpPr>
        <p:spPr>
          <a:xfrm>
            <a:off x="274680" y="6211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48" name="Espace réservé du numéro de diapositive 5"/>
          <p:cNvSpPr/>
          <p:nvPr/>
        </p:nvSpPr>
        <p:spPr>
          <a:xfrm>
            <a:off x="7332840" y="62118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8D16-776C-430E-A14A-5CCC6ACA5F29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Les deux risques macroéconomiques : </a:t>
            </a:r>
            <a:br>
              <a:rPr sz="2500"/>
            </a:b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1. comment retirer la béquille de la politique monétaire ?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0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51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4074-2C09-4788-9D93-BF9A8D43C26B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53" name="Image 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2. Comment retirer la béquille budgétaire ?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5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56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568-D1CF-480B-A682-7CDD575C2409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725400" y="1341360"/>
            <a:ext cx="7591680" cy="495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2c6"/>
                </a:solidFill>
                <a:latin typeface="Avenir LT 85 Heavy"/>
              </a:rPr>
              <a:t>La politique monétaire très souple n’a pas entraîné jusqu’à présent d’anticipations de résurgence de l’inflation.</a:t>
            </a:r>
            <a:endParaRPr b="1" i="1" lang="en-US" sz="25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61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A0AA-AB55-4F2D-B99F-2B640A13D0EB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63" name="Image 1" descr=""/>
          <p:cNvPicPr/>
          <p:nvPr/>
        </p:nvPicPr>
        <p:blipFill>
          <a:blip r:embed="rId1"/>
          <a:stretch/>
        </p:blipFill>
        <p:spPr>
          <a:xfrm>
            <a:off x="468360" y="992160"/>
            <a:ext cx="8380440" cy="526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100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2c6"/>
                </a:solidFill>
                <a:latin typeface="Avenir LT 85 Heavy"/>
              </a:rPr>
              <a:t>Les anticipations vont vers une poursuite </a:t>
            </a:r>
            <a:br>
              <a:rPr sz="2600"/>
            </a:br>
            <a:r>
              <a:rPr b="0" lang="fr-FR" sz="2600" spc="-1" strike="noStrike">
                <a:solidFill>
                  <a:srgbClr val="0072c6"/>
                </a:solidFill>
                <a:latin typeface="Avenir LT 85 Heavy"/>
              </a:rPr>
              <a:t>d’une croissance à un rythme au voisinage de 2%. </a:t>
            </a:r>
            <a:endParaRPr b="1" i="1" lang="en-US" sz="2600" spc="-1" strike="noStrike">
              <a:solidFill>
                <a:srgbClr val="0071b9"/>
              </a:solidFill>
              <a:latin typeface="Arial"/>
            </a:endParaRPr>
          </a:p>
        </p:txBody>
      </p:sp>
      <p:pic>
        <p:nvPicPr>
          <p:cNvPr id="165" name="Image 2" descr=""/>
          <p:cNvPicPr/>
          <p:nvPr/>
        </p:nvPicPr>
        <p:blipFill>
          <a:blip r:embed="rId1"/>
          <a:stretch/>
        </p:blipFill>
        <p:spPr>
          <a:xfrm>
            <a:off x="243000" y="1413000"/>
            <a:ext cx="8658000" cy="4725720"/>
          </a:xfrm>
          <a:prstGeom prst="rect">
            <a:avLst/>
          </a:prstGeom>
          <a:ln w="0">
            <a:noFill/>
          </a:ln>
        </p:spPr>
      </p:pic>
      <p:sp>
        <p:nvSpPr>
          <p:cNvPr id="166" name="Espace réservé du pied de page 3"/>
          <p:cNvSpPr/>
          <p:nvPr/>
        </p:nvSpPr>
        <p:spPr>
          <a:xfrm>
            <a:off x="274680" y="62848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67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E284-6FB8-4ED6-BE5A-8FD974ABBD77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214200" y="1197000"/>
            <a:ext cx="842508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214200" y="189000"/>
            <a:ext cx="8674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2c6"/>
                </a:solidFill>
                <a:latin typeface="Avenir LT 85 Heavy"/>
              </a:rPr>
              <a:t>Après une hésitation courant 2012, l’investissement des sociétés pourrait retrouver le chemin de la hausse.</a:t>
            </a:r>
            <a:endParaRPr b="0" lang="en-US" sz="26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70" name="Espace réservé du pied de page 3"/>
          <p:cNvSpPr/>
          <p:nvPr/>
        </p:nvSpPr>
        <p:spPr>
          <a:xfrm>
            <a:off x="274680" y="6211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55 Roman"/>
              </a:rPr>
              <a:t>CCI Paris - Île de France - 29 janvier 2013</a:t>
            </a:r>
            <a:endParaRPr b="0" lang="en-US" sz="12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71" name="Espace réservé du numéro de diapositive 5"/>
          <p:cNvSpPr/>
          <p:nvPr/>
        </p:nvSpPr>
        <p:spPr>
          <a:xfrm>
            <a:off x="7332840" y="62118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36A-57A4-49A3-A4CE-D8508A565165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Avenir LT 85 Heavy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214200" y="1125360"/>
            <a:ext cx="842508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venir LT 85 Heavy"/>
            </a:endParaRPr>
          </a:p>
        </p:txBody>
      </p:sp>
      <p:pic>
        <p:nvPicPr>
          <p:cNvPr id="173" name="Image 2" descr=""/>
          <p:cNvPicPr/>
          <p:nvPr/>
        </p:nvPicPr>
        <p:blipFill>
          <a:blip r:embed="rId1"/>
          <a:stretch/>
        </p:blipFill>
        <p:spPr>
          <a:xfrm>
            <a:off x="414360" y="992160"/>
            <a:ext cx="8488440" cy="526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3:46:28Z</dcterms:created>
  <dc:creator>Denis Ferrand</dc:creator>
  <dc:description/>
  <dc:language>en-US</dc:language>
  <cp:lastModifiedBy>FBL</cp:lastModifiedBy>
  <cp:lastPrinted>2013-01-29T10:06:09Z</cp:lastPrinted>
  <dcterms:modified xsi:type="dcterms:W3CDTF">2013-01-30T09:46:34Z</dcterms:modified>
  <cp:revision>148</cp:revision>
  <dc:subject/>
  <dc:title>Perspectives Etats-Unis CCI-Ile-de-France 29 janvier 2013</dc:title>
</cp:coreProperties>
</file>