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venir LT 85 Heavy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8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Img"/>
          </p:nvPr>
        </p:nvSpPr>
        <p:spPr>
          <a:xfrm>
            <a:off x="917280" y="742680"/>
            <a:ext cx="496404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71b9"/>
                </a:solidFill>
                <a:latin typeface="Arial"/>
              </a:rPr>
              <a:t>Click to move the slide</a:t>
            </a:r>
            <a:endParaRPr b="1" i="1" lang="en-US" sz="44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ftr" idx="9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 type="sldNum" idx="10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FE38B6-3EEA-455E-9271-882C64A65E1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717187-3E4E-4B20-9CAE-53CA29DE3300}" type="slidenum">
              <a:rPr b="0" lang="fr-FR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Avenir LT 85 Heavy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917640" y="74304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EF3D94E-AEE8-49BB-BDD4-DFE65E306049}" type="slidenum">
              <a:rPr b="0" lang="fr-FR" sz="13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cc"/>
              </a:solidFill>
              <a:latin typeface="Avenir LT 85 Heavy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917640" y="74304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45F375D-7EFB-43C3-989F-9EC2715B89F7}" type="slidenum">
              <a:rPr b="0" lang="fr-FR" sz="13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cc"/>
              </a:solidFill>
              <a:latin typeface="Avenir LT 85 Heavy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917640" y="74304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E845B76-D2E6-4DB2-B808-B83A6CEBA159}" type="slidenum">
              <a:rPr b="0" lang="fr-FR" sz="13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cc"/>
              </a:solidFill>
              <a:latin typeface="Avenir LT 85 Heavy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917640" y="74304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1764EED-2BB2-45D7-AE15-8F5C1561CA9A}" type="slidenum">
              <a:rPr b="0" lang="fr-FR" sz="13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cc"/>
              </a:solidFill>
              <a:latin typeface="Avenir LT 85 Heavy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917640" y="74304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2C5173B-485F-4669-BD64-46092AFC6E9E}" type="slidenum">
              <a:rPr b="0" lang="fr-FR" sz="13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cc"/>
              </a:solidFill>
              <a:latin typeface="Avenir LT 85 Heavy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917640" y="74304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62F2E06-5BB9-49D0-ABFE-BF00170803E3}" type="slidenum">
              <a:rPr b="0" lang="fr-FR" sz="13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cc"/>
              </a:solidFill>
              <a:latin typeface="Avenir LT 85 Heavy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917640" y="74304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2615750-3A4F-44D5-8CCB-4F2F500CCB7A}" type="slidenum">
              <a:rPr b="0" lang="fr-FR" sz="13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cc"/>
              </a:solidFill>
              <a:latin typeface="Avenir LT 85 Heavy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917640" y="74304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FBFB392-C9FE-4300-AEB9-195BF5E2B2BF}" type="slidenum">
              <a:rPr b="0" lang="fr-FR" sz="13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cc"/>
              </a:solidFill>
              <a:latin typeface="Avenir LT 85 Heavy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917640" y="74304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800388D-3B07-47DA-86D7-0FCE04190640}" type="slidenum">
              <a:rPr b="0" lang="fr-FR" sz="13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cc"/>
              </a:solidFill>
              <a:latin typeface="Avenir LT 85 Heavy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917640" y="74304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06B81AF-75F4-44F4-95B2-616D2471C4F3}" type="slidenum">
              <a:rPr b="0" lang="fr-FR" sz="13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cc"/>
              </a:solidFill>
              <a:latin typeface="Avenir LT 85 Heavy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917640" y="74304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0A027AE-61AA-4AB2-B508-5162606AEF26}" type="slidenum">
              <a:rPr b="0" lang="fr-FR" sz="13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cc"/>
              </a:solidFill>
              <a:latin typeface="Avenir LT 85 Heavy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0800" cy="37227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8E2BC6AB-B0A4-4894-93AA-4631BF34E73C}" type="slidenum">
              <a:rPr b="0" lang="fr-FR" sz="13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cc"/>
              </a:solidFill>
              <a:latin typeface="Avenir LT 85 Heavy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917640" y="74304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E3E0BB-0289-4508-B11F-1AED560FCB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849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000" y="4065840"/>
            <a:ext cx="849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5CBBD-65A6-47F7-998B-C3AC1B77B8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19320" y="19162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8000" y="406584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819320" y="406584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97BDD9-5893-46EA-B7A7-4DFA11FAEF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39000" y="191628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10000" y="191628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000" y="406584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39000" y="406584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10000" y="406584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C903F9-30B8-4941-9C3A-66B73251B9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B5EB03-B1AD-4448-895C-CA1279C41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68000" y="1916280"/>
            <a:ext cx="8491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C808AD-37D8-42AA-8C35-CB771D963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849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DCC60B-2247-4C61-B222-A77100557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414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19320" y="1916280"/>
            <a:ext cx="414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70DD7F-644C-4146-8158-15B08F8C2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CC72AB-5600-47CD-90DF-CBF9C6609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533160" y="609120"/>
            <a:ext cx="8491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AE08CD-178E-467E-A65E-6802B6A32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9320" y="1916280"/>
            <a:ext cx="414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8000" y="406584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828ABF-23FE-4E68-BC28-550D03C0B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68000" y="1916280"/>
            <a:ext cx="8491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C8D900-9F52-408E-A0CF-2E61B23BC4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414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9320" y="19162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19320" y="406584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791CE4-B410-4E32-B0A8-6054F9FA3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19320" y="19162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000" y="4065840"/>
            <a:ext cx="849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61142F-FD53-410F-96AC-47F806F25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849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000" y="4065840"/>
            <a:ext cx="849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CD3FF1-B03E-410D-91E0-E7D51BF02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19320" y="19162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8000" y="406584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19320" y="406584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4376A8-5FBD-4FA9-AA4E-ED8659DE6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39000" y="191628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10000" y="191628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" y="406584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39000" y="406584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10000" y="406584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E3B882-80CD-4CF5-BC5A-661D06A32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68000" y="1916280"/>
            <a:ext cx="8491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849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414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819320" y="1916280"/>
            <a:ext cx="414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849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6AC4F2-124F-4577-992C-6C7A5A189BF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533160" y="609120"/>
            <a:ext cx="8491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819320" y="1916280"/>
            <a:ext cx="414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8000" y="406584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414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819320" y="19162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819320" y="406584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19320" y="19162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8000" y="4065840"/>
            <a:ext cx="849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849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8000" y="4065840"/>
            <a:ext cx="849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19320" y="19162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8000" y="406584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819320" y="406584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339000" y="191628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210000" y="191628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8000" y="406584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339000" y="406584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210000" y="406584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414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819320" y="1916280"/>
            <a:ext cx="414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28D80E-FEA9-4E29-A6B7-F622FC3319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ADC2B5-856B-43D0-B4E5-9BD86BFE9D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33160" y="609120"/>
            <a:ext cx="8491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35C0BB-76BF-44E4-9429-30F79C2A90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19320" y="1916280"/>
            <a:ext cx="414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8000" y="406584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0C39B-820A-458F-BB3A-C93A678DBA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414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19320" y="19162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819320" y="406584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3C199E-8E0B-449B-B9DB-F2A0E81E33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19320" y="19162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000" y="4065840"/>
            <a:ext cx="849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942FB7-A333-434B-BE05-6FD4724BBB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71b9"/>
                </a:solidFill>
                <a:latin typeface="Arial"/>
              </a:rPr>
              <a:t>Click to edit the title text format</a:t>
            </a:r>
            <a:endParaRPr b="1" i="1" lang="en-US" sz="44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000" y="1916280"/>
            <a:ext cx="849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1b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7c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1b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1b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71b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1b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71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1b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1b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1b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50560" y="6237360"/>
            <a:ext cx="15843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fr-FR" sz="1200" spc="-1" strike="noStrike">
                <a:solidFill>
                  <a:srgbClr val="0071b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71b9"/>
                </a:solidFill>
                <a:latin typeface="Arial"/>
              </a:rPr>
              <a:t>Medef – Commission Economie du 25 juin 2009</a:t>
            </a:r>
            <a:r>
              <a:rPr b="0" i="1" lang="fr-FR" sz="1200" spc="-1" strike="noStrike">
                <a:solidFill>
                  <a:srgbClr val="0071b9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119720" y="6248520"/>
            <a:ext cx="15555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 u="sng">
                <a:solidFill>
                  <a:srgbClr val="0071b9"/>
                </a:solidFill>
                <a:uFillTx/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778AD-DE7D-4B33-8AE0-114E82F5E285}" type="slidenum">
              <a:rPr b="1" lang="fr-FR" sz="1400" spc="-1" strike="noStrike" u="sng">
                <a:solidFill>
                  <a:srgbClr val="0071b9"/>
                </a:solidFill>
                <a:uFillTx/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71b9"/>
                </a:solidFill>
                <a:latin typeface="Arial"/>
              </a:rPr>
              <a:t>Click to edit the title text format</a:t>
            </a:r>
            <a:endParaRPr b="1" i="1" lang="en-US" sz="44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68000" y="1916280"/>
            <a:ext cx="849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1b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7c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1b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1b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71b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1b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71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1b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1b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1b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3"/>
          </p:nvPr>
        </p:nvSpPr>
        <p:spPr>
          <a:xfrm>
            <a:off x="5331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00"/>
                </a:solidFill>
                <a:latin typeface="Times New Roman"/>
              </a:rPr>
              <a:t>16 janvier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4"/>
          </p:nvPr>
        </p:nvSpPr>
        <p:spPr>
          <a:xfrm>
            <a:off x="28954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venir LT 85 Heavy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5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1B389-E155-4305-953B-082B0C83E913}" type="slidenum">
              <a:rPr b="1" lang="fr-FR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71b9"/>
                </a:solidFill>
                <a:latin typeface="Arial"/>
              </a:rPr>
              <a:t>Click to edit the title text format</a:t>
            </a:r>
            <a:endParaRPr b="1" i="1" lang="en-US" sz="44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68000" y="1916280"/>
            <a:ext cx="849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1b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7c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1b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1b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71b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1b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71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1b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1b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1b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6"/>
          </p:nvPr>
        </p:nvSpPr>
        <p:spPr>
          <a:xfrm>
            <a:off x="5148000" y="6237360"/>
            <a:ext cx="315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cc"/>
                </a:solidFill>
                <a:latin typeface="Times New Roman"/>
              </a:rPr>
              <a:t>18 septembre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7"/>
          </p:nvPr>
        </p:nvSpPr>
        <p:spPr>
          <a:xfrm>
            <a:off x="250560" y="6237360"/>
            <a:ext cx="15843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fr-FR" sz="1200" spc="-1" strike="noStrike">
                <a:solidFill>
                  <a:srgbClr val="0071b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71b9"/>
                </a:solidFill>
                <a:latin typeface="Arial"/>
              </a:rPr>
              <a:t>Conjoncture des services en Fr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presentation1"/>
          <p:cNvPicPr/>
          <p:nvPr/>
        </p:nvPicPr>
        <p:blipFill>
          <a:blip r:embed="rId1"/>
          <a:stretch/>
        </p:blipFill>
        <p:spPr>
          <a:xfrm>
            <a:off x="-1440" y="0"/>
            <a:ext cx="9145440" cy="684036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4"/>
          <p:cNvSpPr/>
          <p:nvPr/>
        </p:nvSpPr>
        <p:spPr>
          <a:xfrm>
            <a:off x="555480" y="2060640"/>
            <a:ext cx="828216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0072c6"/>
                </a:solidFill>
                <a:latin typeface="Avenir LT 85 Heavy"/>
                <a:ea typeface="MS PGothic"/>
              </a:rPr>
              <a:t>Perspectives économiques </a:t>
            </a:r>
            <a:br>
              <a:rPr sz="3400"/>
            </a:br>
            <a:r>
              <a:rPr b="1" lang="fr-FR" sz="3400" spc="-1" strike="noStrike">
                <a:solidFill>
                  <a:srgbClr val="0072c6"/>
                </a:solidFill>
                <a:latin typeface="Avenir LT 85 Heavy"/>
                <a:ea typeface="MS PGothic"/>
              </a:rPr>
              <a:t>des Etats-Unis</a:t>
            </a:r>
            <a:endParaRPr b="0" lang="en-US" sz="3400" spc="-1" strike="noStrike">
              <a:solidFill>
                <a:srgbClr val="ffffcc"/>
              </a:solidFill>
              <a:latin typeface="Avenir LT 85 Heavy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1992240" y="3284640"/>
            <a:ext cx="564876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c0000"/>
                </a:solidFill>
                <a:latin typeface="Avenir LT 55 Roman"/>
                <a:ea typeface="MS PGothic"/>
              </a:rPr>
              <a:t>Chambre de Commerce et d’Industrie </a:t>
            </a:r>
            <a:br>
              <a:rPr sz="2400"/>
            </a:br>
            <a:r>
              <a:rPr b="0" lang="fr-FR" sz="2400" spc="-1" strike="noStrike">
                <a:solidFill>
                  <a:srgbClr val="cc0000"/>
                </a:solidFill>
                <a:latin typeface="Avenir LT 55 Roman"/>
                <a:ea typeface="MS PGothic"/>
              </a:rPr>
              <a:t>de Paris Ile-de-France</a:t>
            </a:r>
            <a:endParaRPr b="0" lang="en-US" sz="2400" spc="-1" strike="noStrike">
              <a:solidFill>
                <a:srgbClr val="ffffcc"/>
              </a:solidFill>
              <a:latin typeface="Avenir LT 85 Heavy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venir LT 85 Heavy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cc0000"/>
                </a:solidFill>
                <a:latin typeface="Avenir LT 55 Roman"/>
                <a:ea typeface="Arial"/>
              </a:rPr>
              <a:t>Paris, 29 janvier 2013</a:t>
            </a:r>
            <a:endParaRPr b="0" lang="en-US" sz="1800" spc="-1" strike="noStrike">
              <a:solidFill>
                <a:srgbClr val="ffffcc"/>
              </a:solidFill>
              <a:latin typeface="Avenir LT 85 Heavy"/>
            </a:endParaRPr>
          </a:p>
        </p:txBody>
      </p:sp>
      <p:pic>
        <p:nvPicPr>
          <p:cNvPr id="131" name="Image 1" descr=""/>
          <p:cNvPicPr/>
          <p:nvPr/>
        </p:nvPicPr>
        <p:blipFill>
          <a:blip r:embed="rId2"/>
          <a:stretch/>
        </p:blipFill>
        <p:spPr>
          <a:xfrm>
            <a:off x="6392880" y="4797360"/>
            <a:ext cx="2504880" cy="1727280"/>
          </a:xfrm>
          <a:prstGeom prst="rect">
            <a:avLst/>
          </a:prstGeom>
          <a:ln w="9360">
            <a:solidFill>
              <a:srgbClr val="cc0000"/>
            </a:solidFill>
            <a:miter/>
          </a:ln>
        </p:spPr>
      </p:pic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74320" y="115920"/>
            <a:ext cx="8613720" cy="100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72c6"/>
                </a:solidFill>
                <a:latin typeface="Avenir LT 85 Heavy"/>
              </a:rPr>
              <a:t>… </a:t>
            </a:r>
            <a:r>
              <a:rPr b="0" lang="fr-FR" sz="2500" spc="-1" strike="noStrike">
                <a:solidFill>
                  <a:srgbClr val="0072c6"/>
                </a:solidFill>
                <a:latin typeface="Avenir LT 85 Heavy"/>
              </a:rPr>
              <a:t>en relation avec une situation financière des entreprises confortable.</a:t>
            </a:r>
            <a:endParaRPr b="1" i="1" lang="en-US" sz="25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175" name="Espace réservé du pied de page 3"/>
          <p:cNvSpPr/>
          <p:nvPr/>
        </p:nvSpPr>
        <p:spPr>
          <a:xfrm>
            <a:off x="274680" y="6284880"/>
            <a:ext cx="158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71b9"/>
                </a:solidFill>
                <a:latin typeface="Avenir LT 55 Roman"/>
              </a:rPr>
              <a:t>CCI Paris - Île de France - 29 janvier 2013</a:t>
            </a:r>
            <a:endParaRPr b="0" lang="en-US" sz="1200" spc="-1" strike="noStrike">
              <a:solidFill>
                <a:srgbClr val="ffffcc"/>
              </a:solidFill>
              <a:latin typeface="Avenir LT 85 Heavy"/>
            </a:endParaRPr>
          </a:p>
        </p:txBody>
      </p:sp>
      <p:sp>
        <p:nvSpPr>
          <p:cNvPr id="176" name="Espace réservé du numéro de diapositive 5"/>
          <p:cNvSpPr/>
          <p:nvPr/>
        </p:nvSpPr>
        <p:spPr>
          <a:xfrm>
            <a:off x="7332840" y="6284880"/>
            <a:ext cx="1555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0A7C0-69D4-4BCB-94EF-668D718F0663}" type="slidenum">
              <a:rPr b="1" lang="fr-FR" sz="1400" spc="-1" strike="noStrike" u="sng">
                <a:solidFill>
                  <a:srgbClr val="0071b9"/>
                </a:solidFill>
                <a:uFillTx/>
                <a:latin typeface="Arial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Avenir LT 85 Heavy"/>
            </a:endParaRPr>
          </a:p>
        </p:txBody>
      </p:sp>
      <p:sp>
        <p:nvSpPr>
          <p:cNvPr id="177" name="Line 5"/>
          <p:cNvSpPr/>
          <p:nvPr/>
        </p:nvSpPr>
        <p:spPr>
          <a:xfrm>
            <a:off x="324000" y="1197000"/>
            <a:ext cx="8424720" cy="0"/>
          </a:xfrm>
          <a:prstGeom prst="line">
            <a:avLst/>
          </a:prstGeom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venir LT 85 Heavy"/>
            </a:endParaRPr>
          </a:p>
        </p:txBody>
      </p:sp>
      <p:pic>
        <p:nvPicPr>
          <p:cNvPr id="178" name="Image 1" descr=""/>
          <p:cNvPicPr/>
          <p:nvPr/>
        </p:nvPicPr>
        <p:blipFill>
          <a:blip r:embed="rId1"/>
          <a:stretch/>
        </p:blipFill>
        <p:spPr>
          <a:xfrm>
            <a:off x="428760" y="1357200"/>
            <a:ext cx="8440560" cy="4902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780400" cy="13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72c6"/>
                </a:solidFill>
                <a:latin typeface="Avenir LT 85 Heavy"/>
              </a:rPr>
              <a:t>La situation de bilan des ménages </a:t>
            </a:r>
            <a:br>
              <a:rPr sz="2400"/>
            </a:br>
            <a:r>
              <a:rPr b="0" lang="fr-FR" sz="2400" spc="-1" strike="noStrike">
                <a:solidFill>
                  <a:srgbClr val="0072c6"/>
                </a:solidFill>
                <a:latin typeface="Avenir LT 85 Heavy"/>
              </a:rPr>
              <a:t>a été significativement assainie</a:t>
            </a:r>
            <a:endParaRPr b="1" i="1" lang="en-US" sz="24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180" name="Line 5"/>
          <p:cNvSpPr/>
          <p:nvPr/>
        </p:nvSpPr>
        <p:spPr>
          <a:xfrm>
            <a:off x="214200" y="1197000"/>
            <a:ext cx="8425080" cy="0"/>
          </a:xfrm>
          <a:prstGeom prst="line">
            <a:avLst/>
          </a:prstGeom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venir LT 85 Heavy"/>
            </a:endParaRPr>
          </a:p>
        </p:txBody>
      </p:sp>
      <p:pic>
        <p:nvPicPr>
          <p:cNvPr id="181" name="Image 1" descr=""/>
          <p:cNvPicPr/>
          <p:nvPr/>
        </p:nvPicPr>
        <p:blipFill>
          <a:blip r:embed="rId1"/>
          <a:stretch/>
        </p:blipFill>
        <p:spPr>
          <a:xfrm>
            <a:off x="243000" y="1197000"/>
            <a:ext cx="8658000" cy="5121360"/>
          </a:xfrm>
          <a:prstGeom prst="rect">
            <a:avLst/>
          </a:prstGeom>
          <a:ln w="0">
            <a:noFill/>
          </a:ln>
        </p:spPr>
      </p:pic>
      <p:sp>
        <p:nvSpPr>
          <p:cNvPr id="182" name="Espace réservé du pied de page 3"/>
          <p:cNvSpPr/>
          <p:nvPr/>
        </p:nvSpPr>
        <p:spPr>
          <a:xfrm>
            <a:off x="274680" y="6211800"/>
            <a:ext cx="158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71b9"/>
                </a:solidFill>
                <a:latin typeface="Avenir LT 55 Roman"/>
              </a:rPr>
              <a:t>CCI Paris - Île de France - 29 janvier 2013</a:t>
            </a:r>
            <a:endParaRPr b="0" lang="en-US" sz="1200" spc="-1" strike="noStrike">
              <a:solidFill>
                <a:srgbClr val="ffffcc"/>
              </a:solidFill>
              <a:latin typeface="Avenir LT 85 Heavy"/>
            </a:endParaRPr>
          </a:p>
        </p:txBody>
      </p:sp>
      <p:sp>
        <p:nvSpPr>
          <p:cNvPr id="183" name="Espace réservé du numéro de diapositive 5"/>
          <p:cNvSpPr/>
          <p:nvPr/>
        </p:nvSpPr>
        <p:spPr>
          <a:xfrm>
            <a:off x="7332840" y="6211800"/>
            <a:ext cx="1555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75F88-7DB4-4727-8DEA-8FCF2969598B}" type="slidenum">
              <a:rPr b="1" lang="fr-FR" sz="1400" spc="-1" strike="noStrike" u="sng">
                <a:solidFill>
                  <a:srgbClr val="0071b9"/>
                </a:solidFill>
                <a:uFillTx/>
                <a:latin typeface="Arial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Avenir LT 85 Heavy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50560" y="115920"/>
            <a:ext cx="8893080" cy="93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72c6"/>
                </a:solidFill>
                <a:latin typeface="Avenir LT 85 Heavy"/>
              </a:rPr>
              <a:t>Le ratio Dette / Valeur des actifs immobiliers des ménages s’est orienté à la baisse.</a:t>
            </a:r>
            <a:endParaRPr b="1" i="1" lang="en-US" sz="25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185" name="Espace réservé du pied de page 3"/>
          <p:cNvSpPr/>
          <p:nvPr/>
        </p:nvSpPr>
        <p:spPr>
          <a:xfrm>
            <a:off x="274680" y="6284880"/>
            <a:ext cx="158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71b9"/>
                </a:solidFill>
                <a:latin typeface="Avenir LT 55 Roman"/>
              </a:rPr>
              <a:t>CCI Paris - Île de France - 29 janvier 2013</a:t>
            </a:r>
            <a:endParaRPr b="0" lang="en-US" sz="1200" spc="-1" strike="noStrike">
              <a:solidFill>
                <a:srgbClr val="ffffcc"/>
              </a:solidFill>
              <a:latin typeface="Avenir LT 85 Heavy"/>
            </a:endParaRPr>
          </a:p>
        </p:txBody>
      </p:sp>
      <p:sp>
        <p:nvSpPr>
          <p:cNvPr id="186" name="Espace réservé du numéro de diapositive 5"/>
          <p:cNvSpPr/>
          <p:nvPr/>
        </p:nvSpPr>
        <p:spPr>
          <a:xfrm>
            <a:off x="7332840" y="6284880"/>
            <a:ext cx="1555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AA35A-C941-4B49-B8E9-C2006FF646F9}" type="slidenum">
              <a:rPr b="1" lang="fr-FR" sz="1400" spc="-1" strike="noStrike" u="sng">
                <a:solidFill>
                  <a:srgbClr val="0071b9"/>
                </a:solidFill>
                <a:uFillTx/>
                <a:latin typeface="Arial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Avenir LT 85 Heavy"/>
            </a:endParaRPr>
          </a:p>
        </p:txBody>
      </p:sp>
      <p:sp>
        <p:nvSpPr>
          <p:cNvPr id="187" name="Line 5"/>
          <p:cNvSpPr/>
          <p:nvPr/>
        </p:nvSpPr>
        <p:spPr>
          <a:xfrm>
            <a:off x="324000" y="1197000"/>
            <a:ext cx="8424720" cy="0"/>
          </a:xfrm>
          <a:prstGeom prst="line">
            <a:avLst/>
          </a:prstGeom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venir LT 85 Heavy"/>
            </a:endParaRPr>
          </a:p>
        </p:txBody>
      </p:sp>
      <p:pic>
        <p:nvPicPr>
          <p:cNvPr id="188" name="Image 1" descr=""/>
          <p:cNvPicPr/>
          <p:nvPr/>
        </p:nvPicPr>
        <p:blipFill>
          <a:blip r:embed="rId1"/>
          <a:stretch/>
        </p:blipFill>
        <p:spPr>
          <a:xfrm>
            <a:off x="571680" y="1185840"/>
            <a:ext cx="8215200" cy="4960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50560" y="115920"/>
            <a:ext cx="8893080" cy="93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72c6"/>
                </a:solidFill>
                <a:latin typeface="Avenir LT 85 Heavy"/>
              </a:rPr>
              <a:t>Le redressement de l’activité de la construction résidentielle se confirme mois après mois.</a:t>
            </a:r>
            <a:endParaRPr b="1" i="1" lang="en-US" sz="2500" spc="-1" strike="noStrike">
              <a:solidFill>
                <a:srgbClr val="0071b9"/>
              </a:solidFill>
              <a:latin typeface="Arial"/>
            </a:endParaRPr>
          </a:p>
        </p:txBody>
      </p:sp>
      <p:pic>
        <p:nvPicPr>
          <p:cNvPr id="190" name="Image 2" descr=""/>
          <p:cNvPicPr/>
          <p:nvPr/>
        </p:nvPicPr>
        <p:blipFill>
          <a:blip r:embed="rId1"/>
          <a:stretch/>
        </p:blipFill>
        <p:spPr>
          <a:xfrm>
            <a:off x="237960" y="1341360"/>
            <a:ext cx="8668080" cy="4797360"/>
          </a:xfrm>
          <a:prstGeom prst="rect">
            <a:avLst/>
          </a:prstGeom>
          <a:ln w="0">
            <a:noFill/>
          </a:ln>
        </p:spPr>
      </p:pic>
      <p:sp>
        <p:nvSpPr>
          <p:cNvPr id="191" name="Espace réservé du pied de page 3"/>
          <p:cNvSpPr/>
          <p:nvPr/>
        </p:nvSpPr>
        <p:spPr>
          <a:xfrm>
            <a:off x="274680" y="6284880"/>
            <a:ext cx="158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71b9"/>
                </a:solidFill>
                <a:latin typeface="Avenir LT 55 Roman"/>
              </a:rPr>
              <a:t>CCI Paris - Île de France - 29 janvier 2013</a:t>
            </a:r>
            <a:endParaRPr b="0" lang="en-US" sz="1200" spc="-1" strike="noStrike">
              <a:solidFill>
                <a:srgbClr val="ffffcc"/>
              </a:solidFill>
              <a:latin typeface="Avenir LT 85 Heavy"/>
            </a:endParaRPr>
          </a:p>
        </p:txBody>
      </p:sp>
      <p:sp>
        <p:nvSpPr>
          <p:cNvPr id="192" name="Espace réservé du numéro de diapositive 5"/>
          <p:cNvSpPr/>
          <p:nvPr/>
        </p:nvSpPr>
        <p:spPr>
          <a:xfrm>
            <a:off x="7332840" y="6284880"/>
            <a:ext cx="1555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0E4C1-ABDC-4EE4-8D68-059BDA30A1EF}" type="slidenum">
              <a:rPr b="1" lang="fr-FR" sz="1400" spc="-1" strike="noStrike" u="sng">
                <a:solidFill>
                  <a:srgbClr val="0071b9"/>
                </a:solidFill>
                <a:uFillTx/>
                <a:latin typeface="Arial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Avenir LT 85 Heavy"/>
            </a:endParaRPr>
          </a:p>
        </p:txBody>
      </p:sp>
      <p:sp>
        <p:nvSpPr>
          <p:cNvPr id="193" name="Line 5"/>
          <p:cNvSpPr/>
          <p:nvPr/>
        </p:nvSpPr>
        <p:spPr>
          <a:xfrm>
            <a:off x="324000" y="1197000"/>
            <a:ext cx="8424720" cy="0"/>
          </a:xfrm>
          <a:prstGeom prst="line">
            <a:avLst/>
          </a:prstGeom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venir LT 85 Heavy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8000" y="115920"/>
            <a:ext cx="9036000" cy="93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72c6"/>
                </a:solidFill>
                <a:latin typeface="Avenir LT 85 Heavy"/>
              </a:rPr>
              <a:t>Le marché du travail reste dégradé au regard des standards américains (taux de chômage à environ 8 %).</a:t>
            </a:r>
            <a:endParaRPr b="1" i="1" lang="en-US" sz="25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195" name="Espace réservé du pied de page 3"/>
          <p:cNvSpPr/>
          <p:nvPr/>
        </p:nvSpPr>
        <p:spPr>
          <a:xfrm>
            <a:off x="274680" y="6284880"/>
            <a:ext cx="158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71b9"/>
                </a:solidFill>
                <a:latin typeface="Avenir LT 55 Roman"/>
              </a:rPr>
              <a:t>CCI Paris - Île de France - 29 janvier 2013</a:t>
            </a:r>
            <a:endParaRPr b="0" lang="en-US" sz="1200" spc="-1" strike="noStrike">
              <a:solidFill>
                <a:srgbClr val="ffffcc"/>
              </a:solidFill>
              <a:latin typeface="Avenir LT 85 Heavy"/>
            </a:endParaRPr>
          </a:p>
        </p:txBody>
      </p:sp>
      <p:sp>
        <p:nvSpPr>
          <p:cNvPr id="196" name="Espace réservé du numéro de diapositive 5"/>
          <p:cNvSpPr/>
          <p:nvPr/>
        </p:nvSpPr>
        <p:spPr>
          <a:xfrm>
            <a:off x="7332840" y="6284880"/>
            <a:ext cx="1555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35E45-27FE-4F61-9E9A-39E80C0D097A}" type="slidenum">
              <a:rPr b="1" lang="fr-FR" sz="1400" spc="-1" strike="noStrike" u="sng">
                <a:solidFill>
                  <a:srgbClr val="0071b9"/>
                </a:solidFill>
                <a:uFillTx/>
                <a:latin typeface="Arial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Avenir LT 85 Heavy"/>
            </a:endParaRPr>
          </a:p>
        </p:txBody>
      </p:sp>
      <p:sp>
        <p:nvSpPr>
          <p:cNvPr id="197" name="Line 5"/>
          <p:cNvSpPr/>
          <p:nvPr/>
        </p:nvSpPr>
        <p:spPr>
          <a:xfrm>
            <a:off x="324000" y="1197000"/>
            <a:ext cx="8424720" cy="0"/>
          </a:xfrm>
          <a:prstGeom prst="line">
            <a:avLst/>
          </a:prstGeom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venir LT 85 Heavy"/>
            </a:endParaRPr>
          </a:p>
        </p:txBody>
      </p:sp>
      <p:pic>
        <p:nvPicPr>
          <p:cNvPr id="198" name="Image 1" descr=""/>
          <p:cNvPicPr/>
          <p:nvPr/>
        </p:nvPicPr>
        <p:blipFill>
          <a:blip r:embed="rId1"/>
          <a:stretch/>
        </p:blipFill>
        <p:spPr>
          <a:xfrm>
            <a:off x="361800" y="1341360"/>
            <a:ext cx="8507520" cy="49183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50560" y="115920"/>
            <a:ext cx="8893080" cy="93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72c6"/>
                </a:solidFill>
                <a:latin typeface="Avenir LT 85 Heavy"/>
              </a:rPr>
              <a:t>Du mieux du côté de l’équilibre extérieur : réduction du déficit</a:t>
            </a:r>
            <a:endParaRPr b="1" i="1" lang="en-US" sz="25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200" name="Espace réservé du pied de page 3"/>
          <p:cNvSpPr/>
          <p:nvPr/>
        </p:nvSpPr>
        <p:spPr>
          <a:xfrm>
            <a:off x="274680" y="6284880"/>
            <a:ext cx="158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71b9"/>
                </a:solidFill>
                <a:latin typeface="Avenir LT 55 Roman"/>
              </a:rPr>
              <a:t>CCI Paris - Île de France - 29 janvier 2013</a:t>
            </a:r>
            <a:endParaRPr b="0" lang="en-US" sz="1200" spc="-1" strike="noStrike">
              <a:solidFill>
                <a:srgbClr val="ffffcc"/>
              </a:solidFill>
              <a:latin typeface="Avenir LT 85 Heavy"/>
            </a:endParaRPr>
          </a:p>
        </p:txBody>
      </p:sp>
      <p:sp>
        <p:nvSpPr>
          <p:cNvPr id="201" name="Espace réservé du numéro de diapositive 5"/>
          <p:cNvSpPr/>
          <p:nvPr/>
        </p:nvSpPr>
        <p:spPr>
          <a:xfrm>
            <a:off x="7332840" y="6284880"/>
            <a:ext cx="1555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0DA6C-92F4-4C87-AB7B-8E1E755495D8}" type="slidenum">
              <a:rPr b="1" lang="fr-FR" sz="1400" spc="-1" strike="noStrike" u="sng">
                <a:solidFill>
                  <a:srgbClr val="0071b9"/>
                </a:solidFill>
                <a:uFillTx/>
                <a:latin typeface="Arial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Avenir LT 85 Heavy"/>
            </a:endParaRPr>
          </a:p>
        </p:txBody>
      </p:sp>
      <p:sp>
        <p:nvSpPr>
          <p:cNvPr id="202" name="Line 5"/>
          <p:cNvSpPr/>
          <p:nvPr/>
        </p:nvSpPr>
        <p:spPr>
          <a:xfrm>
            <a:off x="324000" y="1197000"/>
            <a:ext cx="8424720" cy="0"/>
          </a:xfrm>
          <a:prstGeom prst="line">
            <a:avLst/>
          </a:prstGeom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venir LT 85 Heavy"/>
            </a:endParaRPr>
          </a:p>
        </p:txBody>
      </p:sp>
      <p:pic>
        <p:nvPicPr>
          <p:cNvPr id="203" name="Image 1" descr=""/>
          <p:cNvPicPr/>
          <p:nvPr/>
        </p:nvPicPr>
        <p:blipFill>
          <a:blip r:embed="rId1"/>
          <a:stretch/>
        </p:blipFill>
        <p:spPr>
          <a:xfrm>
            <a:off x="395280" y="1247760"/>
            <a:ext cx="8424720" cy="48452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0560" y="115920"/>
            <a:ext cx="8893080" cy="93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72c6"/>
                </a:solidFill>
                <a:latin typeface="Avenir LT 85 Heavy"/>
              </a:rPr>
              <a:t>Amélioration du taux de couverture des importations par les exportations. A quand l’autosuffisance en matière de produits pétroliers ?</a:t>
            </a:r>
            <a:endParaRPr b="1" i="1" lang="en-US" sz="25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205" name="Espace réservé du pied de page 3"/>
          <p:cNvSpPr/>
          <p:nvPr/>
        </p:nvSpPr>
        <p:spPr>
          <a:xfrm>
            <a:off x="274680" y="6284880"/>
            <a:ext cx="158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71b9"/>
                </a:solidFill>
                <a:latin typeface="Avenir LT 55 Roman"/>
              </a:rPr>
              <a:t>CCI Paris - Île de France - 29 janvier 2013</a:t>
            </a:r>
            <a:endParaRPr b="0" lang="en-US" sz="1200" spc="-1" strike="noStrike">
              <a:solidFill>
                <a:srgbClr val="ffffcc"/>
              </a:solidFill>
              <a:latin typeface="Avenir LT 85 Heavy"/>
            </a:endParaRPr>
          </a:p>
        </p:txBody>
      </p:sp>
      <p:sp>
        <p:nvSpPr>
          <p:cNvPr id="206" name="Espace réservé du numéro de diapositive 5"/>
          <p:cNvSpPr/>
          <p:nvPr/>
        </p:nvSpPr>
        <p:spPr>
          <a:xfrm>
            <a:off x="7332840" y="6284880"/>
            <a:ext cx="1555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ECD85-95DB-4DAD-986A-72C9856F67EA}" type="slidenum">
              <a:rPr b="1" lang="fr-FR" sz="1400" spc="-1" strike="noStrike" u="sng">
                <a:solidFill>
                  <a:srgbClr val="0071b9"/>
                </a:solidFill>
                <a:uFillTx/>
                <a:latin typeface="Arial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Avenir LT 85 Heavy"/>
            </a:endParaRPr>
          </a:p>
        </p:txBody>
      </p:sp>
      <p:sp>
        <p:nvSpPr>
          <p:cNvPr id="207" name="Line 5"/>
          <p:cNvSpPr/>
          <p:nvPr/>
        </p:nvSpPr>
        <p:spPr>
          <a:xfrm>
            <a:off x="324000" y="1197000"/>
            <a:ext cx="8424720" cy="0"/>
          </a:xfrm>
          <a:prstGeom prst="line">
            <a:avLst/>
          </a:prstGeom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venir LT 85 Heavy"/>
            </a:endParaRPr>
          </a:p>
        </p:txBody>
      </p:sp>
      <p:pic>
        <p:nvPicPr>
          <p:cNvPr id="208" name="Image 1" descr=""/>
          <p:cNvPicPr/>
          <p:nvPr/>
        </p:nvPicPr>
        <p:blipFill>
          <a:blip r:embed="rId1"/>
          <a:stretch/>
        </p:blipFill>
        <p:spPr>
          <a:xfrm>
            <a:off x="344520" y="992160"/>
            <a:ext cx="8626320" cy="5265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"/>
          <p:cNvSpPr/>
          <p:nvPr/>
        </p:nvSpPr>
        <p:spPr>
          <a:xfrm>
            <a:off x="108000" y="333360"/>
            <a:ext cx="90360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72c6"/>
                </a:solidFill>
                <a:latin typeface="Avenir LT 85 Heavy"/>
              </a:rPr>
              <a:t>Zone euro, Etats-Unis : Deux situations incomparables du point de vue des trajectoires économiques récentes.</a:t>
            </a:r>
            <a:endParaRPr b="0" lang="en-US" sz="2600" spc="-1" strike="noStrike">
              <a:solidFill>
                <a:srgbClr val="ffffcc"/>
              </a:solidFill>
              <a:latin typeface="Avenir LT 85 Heavy"/>
            </a:endParaRPr>
          </a:p>
        </p:txBody>
      </p:sp>
      <p:sp>
        <p:nvSpPr>
          <p:cNvPr id="133" name="Espace réservé du pied de page 3"/>
          <p:cNvSpPr/>
          <p:nvPr/>
        </p:nvSpPr>
        <p:spPr>
          <a:xfrm>
            <a:off x="274680" y="6211800"/>
            <a:ext cx="158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71b9"/>
                </a:solidFill>
                <a:latin typeface="Avenir LT 55 Roman"/>
              </a:rPr>
              <a:t>CCI Paris - Île de France - 29 janvier 2013</a:t>
            </a:r>
            <a:endParaRPr b="0" lang="en-US" sz="1200" spc="-1" strike="noStrike">
              <a:solidFill>
                <a:srgbClr val="ffffcc"/>
              </a:solidFill>
              <a:latin typeface="Avenir LT 85 Heavy"/>
            </a:endParaRPr>
          </a:p>
        </p:txBody>
      </p:sp>
      <p:pic>
        <p:nvPicPr>
          <p:cNvPr id="134" name="Image 2" descr=""/>
          <p:cNvPicPr/>
          <p:nvPr/>
        </p:nvPicPr>
        <p:blipFill>
          <a:blip r:embed="rId1"/>
          <a:stretch/>
        </p:blipFill>
        <p:spPr>
          <a:xfrm>
            <a:off x="243000" y="1484280"/>
            <a:ext cx="8658000" cy="4834080"/>
          </a:xfrm>
          <a:prstGeom prst="rect">
            <a:avLst/>
          </a:prstGeom>
          <a:ln w="0">
            <a:noFill/>
          </a:ln>
        </p:spPr>
      </p:pic>
      <p:sp>
        <p:nvSpPr>
          <p:cNvPr id="135" name="Ellipse 5"/>
          <p:cNvSpPr/>
          <p:nvPr/>
        </p:nvSpPr>
        <p:spPr>
          <a:xfrm>
            <a:off x="6804000" y="2349360"/>
            <a:ext cx="1997280" cy="1871640"/>
          </a:xfrm>
          <a:prstGeom prst="ellipse">
            <a:avLst/>
          </a:prstGeom>
          <a:noFill/>
          <a:ln w="1908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venir LT 85 Heavy"/>
            </a:endParaRPr>
          </a:p>
        </p:txBody>
      </p:sp>
      <p:sp>
        <p:nvSpPr>
          <p:cNvPr id="136" name="Line 3"/>
          <p:cNvSpPr/>
          <p:nvPr/>
        </p:nvSpPr>
        <p:spPr>
          <a:xfrm>
            <a:off x="250920" y="1268280"/>
            <a:ext cx="8424720" cy="0"/>
          </a:xfrm>
          <a:prstGeom prst="line">
            <a:avLst/>
          </a:prstGeom>
          <a:ln w="2556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venir LT 85 Heavy"/>
            </a:endParaRPr>
          </a:p>
        </p:txBody>
      </p:sp>
      <p:sp>
        <p:nvSpPr>
          <p:cNvPr id="137" name="Espace réservé du numéro de diapositive 5"/>
          <p:cNvSpPr/>
          <p:nvPr/>
        </p:nvSpPr>
        <p:spPr>
          <a:xfrm>
            <a:off x="7332840" y="6211800"/>
            <a:ext cx="1555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C2C18-09AA-4956-95CF-077F134ED5C4}" type="slidenum">
              <a:rPr b="1" lang="fr-FR" sz="1400" spc="-1" strike="noStrike" u="sng">
                <a:solidFill>
                  <a:srgbClr val="0071b9"/>
                </a:solidFill>
                <a:uFillTx/>
                <a:latin typeface="Arial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Avenir LT 85 Heavy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780400" cy="13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72c6"/>
                </a:solidFill>
                <a:latin typeface="Avenir LT 85 Heavy"/>
              </a:rPr>
              <a:t>Le décalage précédent s’explique en particulier par le décrochage des ventes au détail en zone euro. Elles ont dépassé leur point haut aux Etats-Unis.</a:t>
            </a:r>
            <a:endParaRPr b="1" i="1" lang="en-US" sz="24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139" name="Line 5"/>
          <p:cNvSpPr/>
          <p:nvPr/>
        </p:nvSpPr>
        <p:spPr>
          <a:xfrm>
            <a:off x="214200" y="1197000"/>
            <a:ext cx="8425080" cy="0"/>
          </a:xfrm>
          <a:prstGeom prst="line">
            <a:avLst/>
          </a:prstGeom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venir LT 85 Heavy"/>
            </a:endParaRPr>
          </a:p>
        </p:txBody>
      </p:sp>
      <p:pic>
        <p:nvPicPr>
          <p:cNvPr id="140" name="Image 2" descr=""/>
          <p:cNvPicPr/>
          <p:nvPr/>
        </p:nvPicPr>
        <p:blipFill>
          <a:blip r:embed="rId1"/>
          <a:stretch/>
        </p:blipFill>
        <p:spPr>
          <a:xfrm>
            <a:off x="274680" y="1268280"/>
            <a:ext cx="8731080" cy="5040360"/>
          </a:xfrm>
          <a:prstGeom prst="rect">
            <a:avLst/>
          </a:prstGeom>
          <a:ln w="0">
            <a:noFill/>
          </a:ln>
        </p:spPr>
      </p:pic>
      <p:sp>
        <p:nvSpPr>
          <p:cNvPr id="141" name="Espace réservé du pied de page 3"/>
          <p:cNvSpPr/>
          <p:nvPr/>
        </p:nvSpPr>
        <p:spPr>
          <a:xfrm>
            <a:off x="274680" y="6211800"/>
            <a:ext cx="158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71b9"/>
                </a:solidFill>
                <a:latin typeface="Avenir LT 55 Roman"/>
              </a:rPr>
              <a:t>CCI Paris - Île de France - 29 janvier 2013</a:t>
            </a:r>
            <a:endParaRPr b="0" lang="en-US" sz="1200" spc="-1" strike="noStrike">
              <a:solidFill>
                <a:srgbClr val="ffffcc"/>
              </a:solidFill>
              <a:latin typeface="Avenir LT 85 Heavy"/>
            </a:endParaRPr>
          </a:p>
        </p:txBody>
      </p:sp>
      <p:sp>
        <p:nvSpPr>
          <p:cNvPr id="142" name="Espace réservé du numéro de diapositive 5"/>
          <p:cNvSpPr/>
          <p:nvPr/>
        </p:nvSpPr>
        <p:spPr>
          <a:xfrm>
            <a:off x="7332840" y="6211800"/>
            <a:ext cx="1555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4057D-B771-4955-B0F7-03CC15AB58AB}" type="slidenum">
              <a:rPr b="1" lang="fr-FR" sz="1400" spc="-1" strike="noStrike" u="sng">
                <a:solidFill>
                  <a:srgbClr val="0071b9"/>
                </a:solidFill>
                <a:uFillTx/>
                <a:latin typeface="Arial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Avenir LT 85 Heavy"/>
            </a:endParaRPr>
          </a:p>
        </p:txBody>
      </p:sp>
      <p:sp>
        <p:nvSpPr>
          <p:cNvPr id="143" name="Connecteur droit 4"/>
          <p:cNvSpPr/>
          <p:nvPr/>
        </p:nvSpPr>
        <p:spPr>
          <a:xfrm>
            <a:off x="3851280" y="2421000"/>
            <a:ext cx="403380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venir LT 85 Heavy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780400" cy="13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72c6"/>
                </a:solidFill>
                <a:latin typeface="Avenir LT 85 Heavy"/>
              </a:rPr>
              <a:t>Le cycle de l’investissement se poursuit aux Etats-Unis, mais à un rythme plus modéré. Il a déjà avorté en zone euro.</a:t>
            </a:r>
            <a:endParaRPr b="1" i="1" lang="en-US" sz="24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145" name="Line 5"/>
          <p:cNvSpPr/>
          <p:nvPr/>
        </p:nvSpPr>
        <p:spPr>
          <a:xfrm>
            <a:off x="214200" y="1197000"/>
            <a:ext cx="8425080" cy="0"/>
          </a:xfrm>
          <a:prstGeom prst="line">
            <a:avLst/>
          </a:prstGeom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venir LT 85 Heavy"/>
            </a:endParaRPr>
          </a:p>
        </p:txBody>
      </p:sp>
      <p:pic>
        <p:nvPicPr>
          <p:cNvPr id="146" name="Image 1" descr=""/>
          <p:cNvPicPr/>
          <p:nvPr/>
        </p:nvPicPr>
        <p:blipFill>
          <a:blip r:embed="rId1"/>
          <a:stretch/>
        </p:blipFill>
        <p:spPr>
          <a:xfrm>
            <a:off x="243000" y="1197000"/>
            <a:ext cx="8658000" cy="5121360"/>
          </a:xfrm>
          <a:prstGeom prst="rect">
            <a:avLst/>
          </a:prstGeom>
          <a:ln w="0">
            <a:noFill/>
          </a:ln>
        </p:spPr>
      </p:pic>
      <p:sp>
        <p:nvSpPr>
          <p:cNvPr id="147" name="Espace réservé du pied de page 3"/>
          <p:cNvSpPr/>
          <p:nvPr/>
        </p:nvSpPr>
        <p:spPr>
          <a:xfrm>
            <a:off x="274680" y="6211800"/>
            <a:ext cx="158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71b9"/>
                </a:solidFill>
                <a:latin typeface="Avenir LT 55 Roman"/>
              </a:rPr>
              <a:t>CCI Paris - Île de France - 29 janvier 2013</a:t>
            </a:r>
            <a:endParaRPr b="0" lang="en-US" sz="1200" spc="-1" strike="noStrike">
              <a:solidFill>
                <a:srgbClr val="ffffcc"/>
              </a:solidFill>
              <a:latin typeface="Avenir LT 85 Heavy"/>
            </a:endParaRPr>
          </a:p>
        </p:txBody>
      </p:sp>
      <p:sp>
        <p:nvSpPr>
          <p:cNvPr id="148" name="Espace réservé du numéro de diapositive 5"/>
          <p:cNvSpPr/>
          <p:nvPr/>
        </p:nvSpPr>
        <p:spPr>
          <a:xfrm>
            <a:off x="7332840" y="6211800"/>
            <a:ext cx="1555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D41EE-D7DA-47FD-A04A-27D47855909A}" type="slidenum">
              <a:rPr b="1" lang="fr-FR" sz="1400" spc="-1" strike="noStrike" u="sng">
                <a:solidFill>
                  <a:srgbClr val="0071b9"/>
                </a:solidFill>
                <a:uFillTx/>
                <a:latin typeface="Arial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Avenir LT 85 Heavy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50560" y="115920"/>
            <a:ext cx="8893080" cy="93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72c6"/>
                </a:solidFill>
                <a:latin typeface="Avenir LT 85 Heavy"/>
              </a:rPr>
              <a:t>Les deux risques macroéconomiques : </a:t>
            </a:r>
            <a:br>
              <a:rPr sz="2500"/>
            </a:br>
            <a:r>
              <a:rPr b="0" lang="fr-FR" sz="2500" spc="-1" strike="noStrike">
                <a:solidFill>
                  <a:srgbClr val="0072c6"/>
                </a:solidFill>
                <a:latin typeface="Avenir LT 85 Heavy"/>
              </a:rPr>
              <a:t>1. comment retirer la béquille de la politique monétaire ?</a:t>
            </a:r>
            <a:endParaRPr b="1" i="1" lang="en-US" sz="25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150" name="Espace réservé du pied de page 3"/>
          <p:cNvSpPr/>
          <p:nvPr/>
        </p:nvSpPr>
        <p:spPr>
          <a:xfrm>
            <a:off x="274680" y="6284880"/>
            <a:ext cx="158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71b9"/>
                </a:solidFill>
                <a:latin typeface="Avenir LT 55 Roman"/>
              </a:rPr>
              <a:t>CCI Paris - Île de France - 29 janvier 2013</a:t>
            </a:r>
            <a:endParaRPr b="0" lang="en-US" sz="1200" spc="-1" strike="noStrike">
              <a:solidFill>
                <a:srgbClr val="ffffcc"/>
              </a:solidFill>
              <a:latin typeface="Avenir LT 85 Heavy"/>
            </a:endParaRPr>
          </a:p>
        </p:txBody>
      </p:sp>
      <p:sp>
        <p:nvSpPr>
          <p:cNvPr id="151" name="Espace réservé du numéro de diapositive 5"/>
          <p:cNvSpPr/>
          <p:nvPr/>
        </p:nvSpPr>
        <p:spPr>
          <a:xfrm>
            <a:off x="7332840" y="6284880"/>
            <a:ext cx="1555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24938-A808-495D-8FA1-D20949476C2C}" type="slidenum">
              <a:rPr b="1" lang="fr-FR" sz="1400" spc="-1" strike="noStrike" u="sng">
                <a:solidFill>
                  <a:srgbClr val="0071b9"/>
                </a:solidFill>
                <a:uFillTx/>
                <a:latin typeface="Arial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Avenir LT 85 Heavy"/>
            </a:endParaRPr>
          </a:p>
        </p:txBody>
      </p:sp>
      <p:sp>
        <p:nvSpPr>
          <p:cNvPr id="152" name="Line 5"/>
          <p:cNvSpPr/>
          <p:nvPr/>
        </p:nvSpPr>
        <p:spPr>
          <a:xfrm>
            <a:off x="324000" y="1197000"/>
            <a:ext cx="8424720" cy="0"/>
          </a:xfrm>
          <a:prstGeom prst="line">
            <a:avLst/>
          </a:prstGeom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venir LT 85 Heavy"/>
            </a:endParaRPr>
          </a:p>
        </p:txBody>
      </p:sp>
      <p:pic>
        <p:nvPicPr>
          <p:cNvPr id="153" name="Image 1" descr=""/>
          <p:cNvPicPr/>
          <p:nvPr/>
        </p:nvPicPr>
        <p:blipFill>
          <a:blip r:embed="rId1"/>
          <a:stretch/>
        </p:blipFill>
        <p:spPr>
          <a:xfrm>
            <a:off x="395280" y="1125360"/>
            <a:ext cx="8424720" cy="5040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50560" y="115920"/>
            <a:ext cx="8893080" cy="93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72c6"/>
                </a:solidFill>
                <a:latin typeface="Avenir LT 85 Heavy"/>
              </a:rPr>
              <a:t>2. Comment retirer la béquille budgétaire ?</a:t>
            </a:r>
            <a:endParaRPr b="1" i="1" lang="en-US" sz="25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155" name="Espace réservé du pied de page 3"/>
          <p:cNvSpPr/>
          <p:nvPr/>
        </p:nvSpPr>
        <p:spPr>
          <a:xfrm>
            <a:off x="274680" y="6284880"/>
            <a:ext cx="158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71b9"/>
                </a:solidFill>
                <a:latin typeface="Avenir LT 55 Roman"/>
              </a:rPr>
              <a:t>CCI Paris - Île de France - 29 janvier 2013</a:t>
            </a:r>
            <a:endParaRPr b="0" lang="en-US" sz="1200" spc="-1" strike="noStrike">
              <a:solidFill>
                <a:srgbClr val="ffffcc"/>
              </a:solidFill>
              <a:latin typeface="Avenir LT 85 Heavy"/>
            </a:endParaRPr>
          </a:p>
        </p:txBody>
      </p:sp>
      <p:sp>
        <p:nvSpPr>
          <p:cNvPr id="156" name="Espace réservé du numéro de diapositive 5"/>
          <p:cNvSpPr/>
          <p:nvPr/>
        </p:nvSpPr>
        <p:spPr>
          <a:xfrm>
            <a:off x="7332840" y="6284880"/>
            <a:ext cx="1555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07AC8-CFCB-4088-A6C5-10F5E15F7718}" type="slidenum">
              <a:rPr b="1" lang="fr-FR" sz="1400" spc="-1" strike="noStrike" u="sng">
                <a:solidFill>
                  <a:srgbClr val="0071b9"/>
                </a:solidFill>
                <a:uFillTx/>
                <a:latin typeface="Arial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Avenir LT 85 Heavy"/>
            </a:endParaRPr>
          </a:p>
        </p:txBody>
      </p:sp>
      <p:sp>
        <p:nvSpPr>
          <p:cNvPr id="157" name="Line 5"/>
          <p:cNvSpPr/>
          <p:nvPr/>
        </p:nvSpPr>
        <p:spPr>
          <a:xfrm>
            <a:off x="324000" y="1197000"/>
            <a:ext cx="8424720" cy="0"/>
          </a:xfrm>
          <a:prstGeom prst="line">
            <a:avLst/>
          </a:prstGeom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venir LT 85 Heavy"/>
            </a:endParaRPr>
          </a:p>
        </p:txBody>
      </p:sp>
      <p:pic>
        <p:nvPicPr>
          <p:cNvPr id="158" name="Picture 2" descr=""/>
          <p:cNvPicPr/>
          <p:nvPr/>
        </p:nvPicPr>
        <p:blipFill>
          <a:blip r:embed="rId1"/>
          <a:stretch/>
        </p:blipFill>
        <p:spPr>
          <a:xfrm>
            <a:off x="725400" y="1341360"/>
            <a:ext cx="7591680" cy="49514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8000" y="115920"/>
            <a:ext cx="9036000" cy="93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72c6"/>
                </a:solidFill>
                <a:latin typeface="Avenir LT 85 Heavy"/>
              </a:rPr>
              <a:t>La politique monétaire très souple n’a pas entraîné jusqu’à présent d’anticipations de résurgence de l’inflation.</a:t>
            </a:r>
            <a:endParaRPr b="1" i="1" lang="en-US" sz="25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160" name="Espace réservé du pied de page 3"/>
          <p:cNvSpPr/>
          <p:nvPr/>
        </p:nvSpPr>
        <p:spPr>
          <a:xfrm>
            <a:off x="274680" y="6284880"/>
            <a:ext cx="158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71b9"/>
                </a:solidFill>
                <a:latin typeface="Avenir LT 55 Roman"/>
              </a:rPr>
              <a:t>CCI Paris - Île de France - 29 janvier 2013</a:t>
            </a:r>
            <a:endParaRPr b="0" lang="en-US" sz="1200" spc="-1" strike="noStrike">
              <a:solidFill>
                <a:srgbClr val="ffffcc"/>
              </a:solidFill>
              <a:latin typeface="Avenir LT 85 Heavy"/>
            </a:endParaRPr>
          </a:p>
        </p:txBody>
      </p:sp>
      <p:sp>
        <p:nvSpPr>
          <p:cNvPr id="161" name="Espace réservé du numéro de diapositive 5"/>
          <p:cNvSpPr/>
          <p:nvPr/>
        </p:nvSpPr>
        <p:spPr>
          <a:xfrm>
            <a:off x="7332840" y="6284880"/>
            <a:ext cx="1555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F2763-E28D-4B64-B64A-0D7861DDCF76}" type="slidenum">
              <a:rPr b="1" lang="fr-FR" sz="1400" spc="-1" strike="noStrike" u="sng">
                <a:solidFill>
                  <a:srgbClr val="0071b9"/>
                </a:solidFill>
                <a:uFillTx/>
                <a:latin typeface="Arial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Avenir LT 85 Heavy"/>
            </a:endParaRPr>
          </a:p>
        </p:txBody>
      </p:sp>
      <p:sp>
        <p:nvSpPr>
          <p:cNvPr id="162" name="Line 5"/>
          <p:cNvSpPr/>
          <p:nvPr/>
        </p:nvSpPr>
        <p:spPr>
          <a:xfrm>
            <a:off x="324000" y="1197000"/>
            <a:ext cx="8424720" cy="0"/>
          </a:xfrm>
          <a:prstGeom prst="line">
            <a:avLst/>
          </a:prstGeom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venir LT 85 Heavy"/>
            </a:endParaRPr>
          </a:p>
        </p:txBody>
      </p:sp>
      <p:pic>
        <p:nvPicPr>
          <p:cNvPr id="163" name="Image 1" descr=""/>
          <p:cNvPicPr/>
          <p:nvPr/>
        </p:nvPicPr>
        <p:blipFill>
          <a:blip r:embed="rId1"/>
          <a:stretch/>
        </p:blipFill>
        <p:spPr>
          <a:xfrm>
            <a:off x="468360" y="992160"/>
            <a:ext cx="8380440" cy="5265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50560" y="115920"/>
            <a:ext cx="8893080" cy="100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72c6"/>
                </a:solidFill>
                <a:latin typeface="Avenir LT 85 Heavy"/>
              </a:rPr>
              <a:t>Les anticipations vont vers une poursuite </a:t>
            </a:r>
            <a:br>
              <a:rPr sz="2600"/>
            </a:br>
            <a:r>
              <a:rPr b="0" lang="fr-FR" sz="2600" spc="-1" strike="noStrike">
                <a:solidFill>
                  <a:srgbClr val="0072c6"/>
                </a:solidFill>
                <a:latin typeface="Avenir LT 85 Heavy"/>
              </a:rPr>
              <a:t>d’une croissance à un rythme au voisinage de 2%. </a:t>
            </a:r>
            <a:endParaRPr b="1" i="1" lang="en-US" sz="2600" spc="-1" strike="noStrike">
              <a:solidFill>
                <a:srgbClr val="0071b9"/>
              </a:solidFill>
              <a:latin typeface="Arial"/>
            </a:endParaRPr>
          </a:p>
        </p:txBody>
      </p:sp>
      <p:pic>
        <p:nvPicPr>
          <p:cNvPr id="165" name="Image 2" descr=""/>
          <p:cNvPicPr/>
          <p:nvPr/>
        </p:nvPicPr>
        <p:blipFill>
          <a:blip r:embed="rId1"/>
          <a:stretch/>
        </p:blipFill>
        <p:spPr>
          <a:xfrm>
            <a:off x="243000" y="1413000"/>
            <a:ext cx="8658000" cy="4725720"/>
          </a:xfrm>
          <a:prstGeom prst="rect">
            <a:avLst/>
          </a:prstGeom>
          <a:ln w="0">
            <a:noFill/>
          </a:ln>
        </p:spPr>
      </p:pic>
      <p:sp>
        <p:nvSpPr>
          <p:cNvPr id="166" name="Espace réservé du pied de page 3"/>
          <p:cNvSpPr/>
          <p:nvPr/>
        </p:nvSpPr>
        <p:spPr>
          <a:xfrm>
            <a:off x="274680" y="6284880"/>
            <a:ext cx="158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71b9"/>
                </a:solidFill>
                <a:latin typeface="Avenir LT 55 Roman"/>
              </a:rPr>
              <a:t>CCI Paris - Île de France - 29 janvier 2013</a:t>
            </a:r>
            <a:endParaRPr b="0" lang="en-US" sz="1200" spc="-1" strike="noStrike">
              <a:solidFill>
                <a:srgbClr val="ffffcc"/>
              </a:solidFill>
              <a:latin typeface="Avenir LT 85 Heavy"/>
            </a:endParaRPr>
          </a:p>
        </p:txBody>
      </p:sp>
      <p:sp>
        <p:nvSpPr>
          <p:cNvPr id="167" name="Espace réservé du numéro de diapositive 5"/>
          <p:cNvSpPr/>
          <p:nvPr/>
        </p:nvSpPr>
        <p:spPr>
          <a:xfrm>
            <a:off x="7332840" y="6284880"/>
            <a:ext cx="1555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777BB-67A2-4DD7-9A02-EFD38791AD4D}" type="slidenum">
              <a:rPr b="1" lang="fr-FR" sz="1400" spc="-1" strike="noStrike" u="sng">
                <a:solidFill>
                  <a:srgbClr val="0071b9"/>
                </a:solidFill>
                <a:uFillTx/>
                <a:latin typeface="Arial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Avenir LT 85 Heavy"/>
            </a:endParaRPr>
          </a:p>
        </p:txBody>
      </p:sp>
      <p:sp>
        <p:nvSpPr>
          <p:cNvPr id="168" name="Line 5"/>
          <p:cNvSpPr/>
          <p:nvPr/>
        </p:nvSpPr>
        <p:spPr>
          <a:xfrm>
            <a:off x="214200" y="1197000"/>
            <a:ext cx="8425080" cy="0"/>
          </a:xfrm>
          <a:prstGeom prst="line">
            <a:avLst/>
          </a:prstGeom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venir LT 85 Heavy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2"/>
          <p:cNvSpPr/>
          <p:nvPr/>
        </p:nvSpPr>
        <p:spPr>
          <a:xfrm>
            <a:off x="214200" y="189000"/>
            <a:ext cx="86742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72c6"/>
                </a:solidFill>
                <a:latin typeface="Avenir LT 85 Heavy"/>
              </a:rPr>
              <a:t>Après une hésitation courant 2012, l’investissement des sociétés pourrait retrouver le chemin de la hausse.</a:t>
            </a:r>
            <a:endParaRPr b="0" lang="en-US" sz="2600" spc="-1" strike="noStrike">
              <a:solidFill>
                <a:srgbClr val="ffffcc"/>
              </a:solidFill>
              <a:latin typeface="Avenir LT 85 Heavy"/>
            </a:endParaRPr>
          </a:p>
        </p:txBody>
      </p:sp>
      <p:sp>
        <p:nvSpPr>
          <p:cNvPr id="170" name="Espace réservé du pied de page 3"/>
          <p:cNvSpPr/>
          <p:nvPr/>
        </p:nvSpPr>
        <p:spPr>
          <a:xfrm>
            <a:off x="274680" y="6211800"/>
            <a:ext cx="158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71b9"/>
                </a:solidFill>
                <a:latin typeface="Avenir LT 55 Roman"/>
              </a:rPr>
              <a:t>CCI Paris - Île de France - 29 janvier 2013</a:t>
            </a:r>
            <a:endParaRPr b="0" lang="en-US" sz="1200" spc="-1" strike="noStrike">
              <a:solidFill>
                <a:srgbClr val="ffffcc"/>
              </a:solidFill>
              <a:latin typeface="Avenir LT 85 Heavy"/>
            </a:endParaRPr>
          </a:p>
        </p:txBody>
      </p:sp>
      <p:sp>
        <p:nvSpPr>
          <p:cNvPr id="171" name="Espace réservé du numéro de diapositive 5"/>
          <p:cNvSpPr/>
          <p:nvPr/>
        </p:nvSpPr>
        <p:spPr>
          <a:xfrm>
            <a:off x="7332840" y="6211800"/>
            <a:ext cx="1555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3A1BB-A8FC-4E1E-8915-29381FF2F458}" type="slidenum">
              <a:rPr b="1" lang="fr-FR" sz="1400" spc="-1" strike="noStrike" u="sng">
                <a:solidFill>
                  <a:srgbClr val="0071b9"/>
                </a:solidFill>
                <a:uFillTx/>
                <a:latin typeface="Arial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Avenir LT 85 Heavy"/>
            </a:endParaRPr>
          </a:p>
        </p:txBody>
      </p:sp>
      <p:sp>
        <p:nvSpPr>
          <p:cNvPr id="172" name="Line 5"/>
          <p:cNvSpPr/>
          <p:nvPr/>
        </p:nvSpPr>
        <p:spPr>
          <a:xfrm>
            <a:off x="214200" y="1125360"/>
            <a:ext cx="8425080" cy="0"/>
          </a:xfrm>
          <a:prstGeom prst="line">
            <a:avLst/>
          </a:prstGeom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venir LT 85 Heavy"/>
            </a:endParaRPr>
          </a:p>
        </p:txBody>
      </p:sp>
      <p:pic>
        <p:nvPicPr>
          <p:cNvPr id="173" name="Image 2" descr=""/>
          <p:cNvPicPr/>
          <p:nvPr/>
        </p:nvPicPr>
        <p:blipFill>
          <a:blip r:embed="rId1"/>
          <a:stretch/>
        </p:blipFill>
        <p:spPr>
          <a:xfrm>
            <a:off x="414360" y="992160"/>
            <a:ext cx="8488440" cy="52657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10T13:46:28Z</dcterms:created>
  <dc:creator>Denis Ferrand</dc:creator>
  <dc:description/>
  <dc:language>en-US</dc:language>
  <cp:lastModifiedBy>FBL</cp:lastModifiedBy>
  <cp:lastPrinted>2013-01-29T10:06:09Z</cp:lastPrinted>
  <dcterms:modified xsi:type="dcterms:W3CDTF">2013-01-30T09:46:34Z</dcterms:modified>
  <cp:revision>148</cp:revision>
  <dc:subject/>
  <dc:title>Perspectives Etats-Unis CCI-Ile-de-France 29 janvier 2013</dc:title>
</cp:coreProperties>
</file>