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4E4B-FDB8-482C-9E93-602F3322E75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E41E35-2CFB-41AD-A0A0-97EF6445E09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07" name="PlaceHolder 1"/>
          <p:cNvSpPr>
            <a:spLocks noGrp="1"/>
          </p:cNvSpPr>
          <p:nvPr>
            <p:ph type="sldImg"/>
          </p:nvPr>
        </p:nvSpPr>
        <p:spPr>
          <a:xfrm>
            <a:off x="914400" y="744480"/>
            <a:ext cx="4965840" cy="3724200"/>
          </a:xfrm>
          <a:prstGeom prst="rect">
            <a:avLst/>
          </a:prstGeom>
          <a:ln w="0">
            <a:noFill/>
          </a:ln>
        </p:spPr>
      </p:sp>
      <p:sp>
        <p:nvSpPr>
          <p:cNvPr id="108" name="PlaceHolder 2"/>
          <p:cNvSpPr>
            <a:spLocks noGrp="1"/>
          </p:cNvSpPr>
          <p:nvPr>
            <p:ph type="body"/>
          </p:nvPr>
        </p:nvSpPr>
        <p:spPr>
          <a:xfrm>
            <a:off x="677880" y="4716360"/>
            <a:ext cx="54388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DBD3AFB-FFF9-424F-8A75-AD4BED77354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4" name="PlaceHolder 1"/>
          <p:cNvSpPr>
            <a:spLocks noGrp="1"/>
          </p:cNvSpPr>
          <p:nvPr>
            <p:ph type="sldImg"/>
          </p:nvPr>
        </p:nvSpPr>
        <p:spPr>
          <a:xfrm>
            <a:off x="914400" y="744480"/>
            <a:ext cx="4965840" cy="3724200"/>
          </a:xfrm>
          <a:prstGeom prst="rect">
            <a:avLst/>
          </a:prstGeom>
          <a:ln w="0">
            <a:noFill/>
          </a:ln>
        </p:spPr>
      </p:sp>
      <p:sp>
        <p:nvSpPr>
          <p:cNvPr id="13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923B7D7-F293-4FEA-8D30-86EEF4BFBAE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7" name="PlaceHolder 1"/>
          <p:cNvSpPr>
            <a:spLocks noGrp="1"/>
          </p:cNvSpPr>
          <p:nvPr>
            <p:ph type="sldImg"/>
          </p:nvPr>
        </p:nvSpPr>
        <p:spPr>
          <a:xfrm>
            <a:off x="914400" y="744480"/>
            <a:ext cx="4965840" cy="3724200"/>
          </a:xfrm>
          <a:prstGeom prst="rect">
            <a:avLst/>
          </a:prstGeom>
          <a:ln w="0">
            <a:noFill/>
          </a:ln>
        </p:spPr>
      </p:sp>
      <p:sp>
        <p:nvSpPr>
          <p:cNvPr id="138"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F6E6CEE-7B7F-4E77-9978-80562AEB013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0" name="PlaceHolder 1"/>
          <p:cNvSpPr>
            <a:spLocks noGrp="1"/>
          </p:cNvSpPr>
          <p:nvPr>
            <p:ph type="sldImg"/>
          </p:nvPr>
        </p:nvSpPr>
        <p:spPr>
          <a:xfrm>
            <a:off x="914400" y="744480"/>
            <a:ext cx="4965840" cy="3724200"/>
          </a:xfrm>
          <a:prstGeom prst="rect">
            <a:avLst/>
          </a:prstGeom>
          <a:ln w="0">
            <a:noFill/>
          </a:ln>
        </p:spPr>
      </p:sp>
      <p:sp>
        <p:nvSpPr>
          <p:cNvPr id="111"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AE27AEA-F948-4F28-A398-2B90217B9F0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3" name="PlaceHolder 1"/>
          <p:cNvSpPr>
            <a:spLocks noGrp="1"/>
          </p:cNvSpPr>
          <p:nvPr>
            <p:ph type="sldImg"/>
          </p:nvPr>
        </p:nvSpPr>
        <p:spPr>
          <a:xfrm>
            <a:off x="914400" y="744480"/>
            <a:ext cx="4965840" cy="3724200"/>
          </a:xfrm>
          <a:prstGeom prst="rect">
            <a:avLst/>
          </a:prstGeom>
          <a:ln w="0">
            <a:noFill/>
          </a:ln>
        </p:spPr>
      </p:sp>
      <p:sp>
        <p:nvSpPr>
          <p:cNvPr id="114"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EAD7AFE-FD9D-445A-B964-C92AC319202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6" name="PlaceHolder 1"/>
          <p:cNvSpPr>
            <a:spLocks noGrp="1"/>
          </p:cNvSpPr>
          <p:nvPr>
            <p:ph type="sldImg"/>
          </p:nvPr>
        </p:nvSpPr>
        <p:spPr>
          <a:xfrm>
            <a:off x="914400" y="744480"/>
            <a:ext cx="4965840" cy="3724200"/>
          </a:xfrm>
          <a:prstGeom prst="rect">
            <a:avLst/>
          </a:prstGeom>
          <a:ln w="0">
            <a:noFill/>
          </a:ln>
        </p:spPr>
      </p:sp>
      <p:sp>
        <p:nvSpPr>
          <p:cNvPr id="117"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8C7E8D-9D2A-466F-A517-723135BEBD6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9" name="PlaceHolder 1"/>
          <p:cNvSpPr>
            <a:spLocks noGrp="1"/>
          </p:cNvSpPr>
          <p:nvPr>
            <p:ph type="sldImg"/>
          </p:nvPr>
        </p:nvSpPr>
        <p:spPr>
          <a:xfrm>
            <a:off x="914400" y="744480"/>
            <a:ext cx="4965840" cy="3724200"/>
          </a:xfrm>
          <a:prstGeom prst="rect">
            <a:avLst/>
          </a:prstGeom>
          <a:ln w="0">
            <a:noFill/>
          </a:ln>
        </p:spPr>
      </p:sp>
      <p:sp>
        <p:nvSpPr>
          <p:cNvPr id="120"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9C0E0DB-8745-4CD7-88CD-1DC21EE2469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2" name="PlaceHolder 1"/>
          <p:cNvSpPr>
            <a:spLocks noGrp="1"/>
          </p:cNvSpPr>
          <p:nvPr>
            <p:ph type="sldImg"/>
          </p:nvPr>
        </p:nvSpPr>
        <p:spPr>
          <a:xfrm>
            <a:off x="914400" y="744480"/>
            <a:ext cx="4965840" cy="3724200"/>
          </a:xfrm>
          <a:prstGeom prst="rect">
            <a:avLst/>
          </a:prstGeom>
          <a:ln w="0">
            <a:noFill/>
          </a:ln>
        </p:spPr>
      </p:sp>
      <p:sp>
        <p:nvSpPr>
          <p:cNvPr id="123"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37CF5A-6412-49F5-A579-6D2FD00E3F8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5" name="PlaceHolder 1"/>
          <p:cNvSpPr>
            <a:spLocks noGrp="1"/>
          </p:cNvSpPr>
          <p:nvPr>
            <p:ph type="sldImg"/>
          </p:nvPr>
        </p:nvSpPr>
        <p:spPr>
          <a:xfrm>
            <a:off x="914400" y="744480"/>
            <a:ext cx="4965840" cy="3724200"/>
          </a:xfrm>
          <a:prstGeom prst="rect">
            <a:avLst/>
          </a:prstGeom>
          <a:ln w="0">
            <a:noFill/>
          </a:ln>
        </p:spPr>
      </p:sp>
      <p:sp>
        <p:nvSpPr>
          <p:cNvPr id="126"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E08C61B-7595-4040-BDF6-359D434EFBD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914400" y="744480"/>
            <a:ext cx="4965840" cy="3724200"/>
          </a:xfrm>
          <a:prstGeom prst="rect">
            <a:avLst/>
          </a:prstGeom>
          <a:ln w="0">
            <a:noFill/>
          </a:ln>
        </p:spPr>
      </p:sp>
      <p:sp>
        <p:nvSpPr>
          <p:cNvPr id="129"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F52090-BDF5-4250-9FCD-9922A968B03E}"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1" name="PlaceHolder 1"/>
          <p:cNvSpPr>
            <a:spLocks noGrp="1"/>
          </p:cNvSpPr>
          <p:nvPr>
            <p:ph type="sldImg"/>
          </p:nvPr>
        </p:nvSpPr>
        <p:spPr>
          <a:xfrm>
            <a:off x="914400" y="744480"/>
            <a:ext cx="4965840" cy="3724200"/>
          </a:xfrm>
          <a:prstGeom prst="rect">
            <a:avLst/>
          </a:prstGeom>
          <a:ln w="0">
            <a:noFill/>
          </a:ln>
        </p:spPr>
      </p:sp>
      <p:sp>
        <p:nvSpPr>
          <p:cNvPr id="132"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15EBC-3F91-4D30-8C0E-25271E7415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FD228-5BA4-4787-BE29-8EC6E4776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90C46-0D62-441E-8763-DB16ADF45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4EFB53-589F-40FE-B9F4-61078EB0A5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DE7F9-1450-4390-8728-6B69D70D3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2EADF-6C5A-4AF8-BEAB-5C74CA048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64F6A-DE42-43C4-9D08-B2447E822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E08BA-9903-4817-BCCB-D2B0A2ECA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7E927-9F3D-4B2E-9F51-33FAEFCB1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EE5E0-9AF3-40D4-8077-D8C3C8A29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D4D3B-89FD-4337-85DB-3DA4113BD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79AD5-D5AD-4DF4-85EE-0EB2CE05C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BA97-1436-4D1A-BCA7-1ACAE5C3BAFD}" type="slidenum">
              <a:rPr b="0" lang="fr-B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presentation1"/>
          <p:cNvPicPr/>
          <p:nvPr/>
        </p:nvPicPr>
        <p:blipFill>
          <a:blip r:embed="rId1"/>
          <a:stretch/>
        </p:blipFill>
        <p:spPr>
          <a:xfrm>
            <a:off x="11160" y="0"/>
            <a:ext cx="9145440" cy="6840360"/>
          </a:xfrm>
          <a:prstGeom prst="rect">
            <a:avLst/>
          </a:prstGeom>
          <a:ln w="0">
            <a:noFill/>
          </a:ln>
        </p:spPr>
      </p:pic>
      <p:sp>
        <p:nvSpPr>
          <p:cNvPr id="49" name="Text Box 3"/>
          <p:cNvSpPr/>
          <p:nvPr/>
        </p:nvSpPr>
        <p:spPr>
          <a:xfrm>
            <a:off x="1042920" y="4508640"/>
            <a:ext cx="7426440" cy="1161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endParaRPr b="0" lang="en-US" sz="3500" spc="-1" strike="noStrike">
              <a:solidFill>
                <a:srgbClr val="000000"/>
              </a:solidFill>
              <a:latin typeface="Calibri"/>
            </a:endParaRPr>
          </a:p>
        </p:txBody>
      </p:sp>
      <p:sp>
        <p:nvSpPr>
          <p:cNvPr id="50" name="Text Box 4"/>
          <p:cNvSpPr/>
          <p:nvPr/>
        </p:nvSpPr>
        <p:spPr>
          <a:xfrm>
            <a:off x="108000" y="2349360"/>
            <a:ext cx="903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2c6"/>
                </a:solidFill>
                <a:latin typeface="Avenir LT 85 Heavy"/>
                <a:ea typeface="ＭＳ Ｐゴシック"/>
              </a:rPr>
              <a:t>Quel référentiel </a:t>
            </a:r>
            <a:br>
              <a:rPr sz="3200"/>
            </a:br>
            <a:r>
              <a:rPr b="1" lang="fr-FR" sz="3200" spc="-1" strike="noStrike">
                <a:solidFill>
                  <a:srgbClr val="0072c6"/>
                </a:solidFill>
                <a:latin typeface="Avenir LT 85 Heavy"/>
                <a:ea typeface="ＭＳ Ｐゴシック"/>
              </a:rPr>
              <a:t>pour les revalorisations du SMIC ?</a:t>
            </a:r>
            <a:endParaRPr b="0" lang="en-US" sz="3200" spc="-1" strike="noStrike">
              <a:solidFill>
                <a:srgbClr val="000000"/>
              </a:solidFill>
              <a:latin typeface="Calibri"/>
            </a:endParaRPr>
          </a:p>
        </p:txBody>
      </p:sp>
      <p:sp>
        <p:nvSpPr>
          <p:cNvPr id="51" name="Rectangle 5"/>
          <p:cNvSpPr/>
          <p:nvPr/>
        </p:nvSpPr>
        <p:spPr>
          <a:xfrm>
            <a:off x="3534120" y="4508640"/>
            <a:ext cx="2251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47a00"/>
                </a:solidFill>
                <a:latin typeface="Avenir LT 85 Heavy"/>
                <a:ea typeface="ＭＳ Ｐゴシック"/>
              </a:rPr>
              <a:t>4 décembre 2012</a:t>
            </a:r>
            <a:endParaRPr b="0" lang="en-US" sz="2000" spc="-1" strike="noStrike">
              <a:solidFill>
                <a:srgbClr val="000000"/>
              </a:solidFill>
              <a:latin typeface="Calibri"/>
            </a:endParaRPr>
          </a:p>
        </p:txBody>
      </p:sp>
      <p:sp>
        <p:nvSpPr>
          <p:cNvPr id="52" name="ZoneTexte 1"/>
          <p:cNvSpPr/>
          <p:nvPr/>
        </p:nvSpPr>
        <p:spPr>
          <a:xfrm>
            <a:off x="1560960" y="3913200"/>
            <a:ext cx="5877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040"/>
                </a:solidFill>
                <a:latin typeface="Calibri"/>
              </a:rPr>
              <a:t>Denis Ferrand, directeur général de Coe-Rexecode</a:t>
            </a:r>
            <a:endParaRPr b="0" lang="en-US" sz="22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Evolution des prix des logements anciens</a:t>
            </a:r>
            <a:endParaRPr b="0" lang="en-US" sz="2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4A13-D0DE-4686-868E-13AC63811FE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pic>
        <p:nvPicPr>
          <p:cNvPr id="100" name="Graphique 6" descr=""/>
          <p:cNvPicPr/>
          <p:nvPr/>
        </p:nvPicPr>
        <p:blipFill>
          <a:blip r:embed="rId1"/>
          <a:stretch/>
        </p:blipFill>
        <p:spPr>
          <a:xfrm>
            <a:off x="1695600" y="1773360"/>
            <a:ext cx="5540400" cy="39081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Conclusion</a:t>
            </a:r>
            <a:endParaRPr b="0" lang="en-US" sz="2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Difficile de remettre en cause la règle actuelle d’indexation : </a:t>
            </a:r>
            <a:endParaRPr b="0" lang="en-US" sz="20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Prendre en compte la croissance risque de nuire à la prévisibilité du dispositif Les révisions intervenant sur la statistique de référence pourraient nuire à la qualité du dialogue social (prima du technique).</a:t>
            </a:r>
            <a:endParaRPr b="0" lang="en-US" sz="16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Intégrer l’acquisition de logements pose la question des différences géographiques très marquées sur le marché de l’immobilier. </a:t>
            </a:r>
            <a:br>
              <a:rPr sz="1600"/>
            </a:br>
            <a:r>
              <a:rPr b="0" lang="fr-FR" sz="1600" spc="-1" strike="noStrike">
                <a:solidFill>
                  <a:srgbClr val="0072c6"/>
                </a:solidFill>
                <a:latin typeface="Avenir LT 55 Roman"/>
              </a:rPr>
              <a:t>Il y a peut-être d’autres outils dans la politique du logement que le seul SMIC.</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72c6"/>
                </a:solidFill>
                <a:latin typeface="Avenir LT 55 Roman"/>
              </a:rPr>
              <a:t>Des aménagements à la marge (voir propositions de Cette et Wasmer, LIEPP) pour mieux prendre en compte les trajectoires de population et d’emplois :</a:t>
            </a:r>
            <a:endParaRPr b="0" lang="en-US" sz="20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Remplacer le SHBO par le SHBOE ou le SHB</a:t>
            </a:r>
            <a:endParaRPr b="0" lang="en-US" sz="16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Remplacer l’IPC en tenant compte des ménages à la fois urbains et ruraux</a:t>
            </a:r>
            <a:endParaRPr b="0" lang="en-US" sz="16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3"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C523-850D-4EC3-8376-F2236DC9AAA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4"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Rappels</a:t>
            </a:r>
            <a:endParaRPr b="0" lang="en-US" sz="2400" spc="-1" strike="noStrike">
              <a:solidFill>
                <a:srgbClr val="000000"/>
              </a:solidFill>
              <a:latin typeface="Calibri"/>
            </a:endParaRPr>
          </a:p>
        </p:txBody>
      </p:sp>
      <p:sp>
        <p:nvSpPr>
          <p:cNvPr id="54" name=""/>
          <p:cNvSpPr txBox="1"/>
          <p:nvPr/>
        </p:nvSpPr>
        <p:spPr>
          <a:xfrm>
            <a:off x="457200" y="1413000"/>
            <a:ext cx="8229600" cy="4713120"/>
          </a:xfrm>
          <a:prstGeom prst="rect">
            <a:avLst/>
          </a:prstGeom>
          <a:noFill/>
          <a:ln w="0">
            <a:noFill/>
          </a:ln>
        </p:spPr>
        <p:txBody>
          <a:bodyPr anchor="t">
            <a:normAutofit/>
          </a:bodyPr>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Article L3231-9 du Code du Travail :</a:t>
            </a:r>
            <a:endParaRPr b="0" lang="en-US" sz="19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 Les relèvements annuels successifs du salaire minimum de croissance doivent tendre à éliminer toute distorsion durable entre sa progression et l'évolution des conditions économiques générales et des revenus »</a:t>
            </a:r>
            <a:endParaRPr b="0" lang="en-US" sz="15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Article L3231-2 :</a:t>
            </a:r>
            <a:endParaRPr b="0" lang="en-US" sz="19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 Le salaire minimum de croissance assure aux salariés dont les rémunérations sont les plus faibles la garantie de leur pouvoir d’achat ainsi qu’une participation au développement économique de la nation »</a:t>
            </a:r>
            <a:endParaRPr b="0" lang="en-US" sz="15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Règle de revalorisation au 1</a:t>
            </a:r>
            <a:r>
              <a:rPr b="0" lang="fr-FR" sz="1900" spc="-1" strike="noStrike" baseline="30000">
                <a:solidFill>
                  <a:srgbClr val="0072c6"/>
                </a:solidFill>
                <a:latin typeface="Avenir LT 55 Roman"/>
              </a:rPr>
              <a:t>er</a:t>
            </a:r>
            <a:r>
              <a:rPr b="0" lang="fr-FR" sz="1900" spc="-1" strike="noStrike">
                <a:solidFill>
                  <a:srgbClr val="0072c6"/>
                </a:solidFill>
                <a:latin typeface="Avenir LT 55 Roman"/>
              </a:rPr>
              <a:t> janvier de chaque année:</a:t>
            </a:r>
            <a:endParaRPr b="0" lang="en-US" sz="19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Progression de l’IPC hors tabac pour les ménages urbains dont le chef est ouvrier ou employé (art. L3231-4)</a:t>
            </a:r>
            <a:endParaRPr b="0" lang="en-US" sz="15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La moitié des gains de pouvoir d’achat du SHBO (art. L3231-8)</a:t>
            </a:r>
            <a:endParaRPr b="0" lang="en-US" sz="1500" spc="-1" strike="noStrike">
              <a:solidFill>
                <a:srgbClr val="000000"/>
              </a:solidFill>
              <a:latin typeface="Calibri"/>
            </a:endParaRPr>
          </a:p>
          <a:p>
            <a:pPr lvl="1" marL="743040" indent="-28584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Le gouvernement peut octroyer un « coup de pouce » (art. L3231-10)</a:t>
            </a:r>
            <a:endParaRPr b="0" lang="en-US" sz="15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Le principe : un salaire minimum unique à la fois du point de vue interprofessionnel (base des négociations conventionnelles), spatial et générationnel.</a:t>
            </a: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55"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7786-F609-4665-A9DF-8D3E21F4284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6"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fondements théoriques de l’évolution des salaires</a:t>
            </a:r>
            <a:endParaRPr b="0" lang="en-US" sz="2400" spc="-1" strike="noStrike">
              <a:solidFill>
                <a:srgbClr val="000000"/>
              </a:solidFill>
              <a:latin typeface="Calibri"/>
            </a:endParaRPr>
          </a:p>
        </p:txBody>
      </p:sp>
      <p:sp>
        <p:nvSpPr>
          <p:cNvPr id="59" name=""/>
          <p:cNvSpPr txBox="1"/>
          <p:nvPr/>
        </p:nvSpPr>
        <p:spPr>
          <a:xfrm>
            <a:off x="455760" y="1341360"/>
            <a:ext cx="8229600" cy="4525920"/>
          </a:xfrm>
          <a:prstGeom prst="rect">
            <a:avLst/>
          </a:prstGeom>
          <a:noFill/>
          <a:ln w="0">
            <a:noFill/>
          </a:ln>
        </p:spPr>
        <p:txBody>
          <a:bodyPr anchor="t">
            <a:normAutofit fontScale="97000"/>
          </a:bodyPr>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En situation de concurrence parfaite, le salaire réel doit être égal à la productivité marginale du travail. </a:t>
            </a:r>
            <a:br>
              <a:rPr sz="1700"/>
            </a:br>
            <a:r>
              <a:rPr b="0" lang="fr-FR" sz="1700" spc="-1" strike="noStrike">
                <a:solidFill>
                  <a:srgbClr val="0072c6"/>
                </a:solidFill>
                <a:latin typeface="Avenir LT 55 Roman"/>
              </a:rPr>
              <a:t>Le référentiel de son évolution est celle des gains de productivité mesurés à l’échelle macroéconomique par l’évolution du rapport de la production aux quantités de facteurs utilisés dans le processus de production. </a:t>
            </a: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L’affectation des gains de productivité peut être de trois ordres : </a:t>
            </a:r>
            <a:br>
              <a:rPr sz="1700"/>
            </a:br>
            <a:r>
              <a:rPr b="0" lang="fr-FR" sz="1700" spc="-1" strike="noStrike">
                <a:solidFill>
                  <a:srgbClr val="0072c6"/>
                </a:solidFill>
                <a:latin typeface="Avenir LT 55 Roman"/>
              </a:rPr>
              <a:t>- une baisse des prix des produits (effet pouvoir d’achat),</a:t>
            </a:r>
            <a:br>
              <a:rPr sz="1700"/>
            </a:br>
            <a:r>
              <a:rPr b="0" lang="fr-FR" sz="1700" spc="-1" strike="noStrike">
                <a:solidFill>
                  <a:srgbClr val="0072c6"/>
                </a:solidFill>
                <a:latin typeface="Avenir LT 55 Roman"/>
              </a:rPr>
              <a:t>- une hausse des salaires,</a:t>
            </a:r>
            <a:br>
              <a:rPr sz="1700"/>
            </a:br>
            <a:r>
              <a:rPr b="0" lang="fr-FR" sz="1700" spc="-1" strike="noStrike">
                <a:solidFill>
                  <a:srgbClr val="0072c6"/>
                </a:solidFill>
                <a:latin typeface="Avenir LT 55 Roman"/>
              </a:rPr>
              <a:t>- une hausse des marges d’exploitation.</a:t>
            </a:r>
            <a:br>
              <a:rPr sz="1700"/>
            </a:br>
            <a:r>
              <a:rPr b="0" lang="fr-FR" sz="1700" spc="-1" strike="noStrike">
                <a:solidFill>
                  <a:srgbClr val="0072c6"/>
                </a:solidFill>
                <a:latin typeface="Avenir LT 55 Roman"/>
              </a:rPr>
              <a:t> </a:t>
            </a:r>
            <a:br>
              <a:rPr sz="1700"/>
            </a:br>
            <a:r>
              <a:rPr b="0" lang="fr-FR" sz="1700" spc="-1" strike="noStrike">
                <a:solidFill>
                  <a:srgbClr val="0072c6"/>
                </a:solidFill>
                <a:latin typeface="Avenir LT 55 Roman"/>
              </a:rPr>
              <a:t>A proportion de facteurs de production (capital et travail) inchangée, une progression des salaires conforme aux gains de productivité conduit à une stabilisation de la part des salaires dans la valeur ajoutée de l’économie.</a:t>
            </a: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Respect de la référence à l’évolution des conditions économiques globales et des revenus salariaux. De fait, pouvoir d’achat du SHBO et productivité horaire ont connu des évolutions proches (cf présentation DARES du 26 octobre)</a:t>
            </a: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332640" indent="-33264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2640" indent="-3326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2640" indent="-33264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0"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6698-8912-4B10-86A3-138B26FAACD7}"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1"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indexation sur la productivité : une logique théorique qui se heurte à des difficultés pratiques</a:t>
            </a:r>
            <a:endParaRPr b="0" lang="en-US" sz="2400" spc="-1" strike="noStrike">
              <a:solidFill>
                <a:srgbClr val="000000"/>
              </a:solidFill>
              <a:latin typeface="Calibri"/>
            </a:endParaRPr>
          </a:p>
        </p:txBody>
      </p:sp>
      <p:sp>
        <p:nvSpPr>
          <p:cNvPr id="64" name=""/>
          <p:cNvSpPr txBox="1"/>
          <p:nvPr/>
        </p:nvSpPr>
        <p:spPr>
          <a:xfrm>
            <a:off x="250560" y="1600200"/>
            <a:ext cx="8713800" cy="4525920"/>
          </a:xfrm>
          <a:prstGeom prst="rect">
            <a:avLst/>
          </a:prstGeom>
          <a:noFill/>
          <a:ln w="0">
            <a:noFill/>
          </a:ln>
        </p:spPr>
        <p:txBody>
          <a:bodyPr anchor="t">
            <a:normAutofit fontScale="98000"/>
          </a:bodyPr>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Des difficultés de mesure des quantités de facteurs mobilisés : </a:t>
            </a:r>
            <a:br>
              <a:rPr sz="1700"/>
            </a:br>
            <a:r>
              <a:rPr b="0" lang="fr-FR" sz="1700" spc="-1" strike="noStrike">
                <a:solidFill>
                  <a:srgbClr val="0072c6"/>
                </a:solidFill>
                <a:latin typeface="Avenir LT 55 Roman"/>
              </a:rPr>
              <a:t>En particulier, des statistiques de durée du travail sujettes à débats</a:t>
            </a:r>
            <a:br>
              <a:rPr sz="1700"/>
            </a:br>
            <a:r>
              <a:rPr b="0" lang="fr-FR" sz="1700" spc="-1" strike="noStrike">
                <a:solidFill>
                  <a:srgbClr val="0072c6"/>
                </a:solidFill>
                <a:latin typeface="Avenir LT 55 Roman"/>
              </a:rPr>
              <a:t> </a:t>
            </a: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De fortes divergences inter-sectorielles des gains de productivité</a:t>
            </a: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Des révisions de grande ampleur du niveau du PIB : le numérateur du rapport de productivité </a:t>
            </a: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	</a:t>
            </a:r>
            <a:r>
              <a:rPr b="0" lang="fr-FR" sz="1700" spc="-1" strike="noStrike">
                <a:solidFill>
                  <a:srgbClr val="0072c6"/>
                </a:solidFill>
                <a:latin typeface="Avenir LT 55 Roman"/>
              </a:rPr>
              <a:t>un risque de perte de lisibilité d’un dispositif d’indexation simple et immédiat, </a:t>
            </a:r>
            <a:endParaRPr b="0" lang="en-US" sz="1700" spc="-1" strike="noStrike">
              <a:solidFill>
                <a:srgbClr val="000000"/>
              </a:solidFill>
              <a:latin typeface="Calibri"/>
            </a:endParaRPr>
          </a:p>
          <a:p>
            <a:pPr marL="335880" indent="-335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	</a:t>
            </a:r>
            <a:r>
              <a:rPr b="0" lang="fr-FR" sz="1700" spc="-1" strike="noStrike">
                <a:solidFill>
                  <a:srgbClr val="0072c6"/>
                </a:solidFill>
                <a:latin typeface="Avenir LT 55 Roman"/>
              </a:rPr>
              <a:t>des révisions qui pourraient nuire à la qualité du dialogue social. </a:t>
            </a:r>
            <a:br>
              <a:rPr sz="1700"/>
            </a:br>
            <a:r>
              <a:rPr b="0" lang="fr-FR" sz="1700" spc="-1" strike="noStrike">
                <a:solidFill>
                  <a:srgbClr val="0072c6"/>
                </a:solidFill>
                <a:latin typeface="Avenir LT 55 Roman"/>
              </a:rPr>
              <a:t>	</a:t>
            </a:r>
            <a:endParaRPr b="0" lang="en-US" sz="1700" spc="-1" strike="noStrike">
              <a:solidFill>
                <a:srgbClr val="000000"/>
              </a:solidFill>
              <a:latin typeface="Calibri"/>
            </a:endParaRPr>
          </a:p>
          <a:p>
            <a:pPr marL="335880" indent="-335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	</a:t>
            </a:r>
            <a:r>
              <a:rPr b="0" lang="fr-FR" sz="1700" spc="-1" strike="noStrike">
                <a:solidFill>
                  <a:srgbClr val="0072c6"/>
                </a:solidFill>
                <a:latin typeface="Avenir LT 55 Roman"/>
              </a:rPr>
              <a:t>La productivité et la croissance paraissent disqualifiées </a:t>
            </a:r>
            <a:br>
              <a:rPr sz="1700"/>
            </a:br>
            <a:r>
              <a:rPr b="0" lang="fr-FR" sz="1700" spc="-1" strike="noStrike">
                <a:solidFill>
                  <a:srgbClr val="0072c6"/>
                </a:solidFill>
                <a:latin typeface="Avenir LT 55 Roman"/>
              </a:rPr>
              <a:t>	</a:t>
            </a:r>
            <a:r>
              <a:rPr b="0" lang="fr-FR" sz="1700" spc="-1" strike="noStrike">
                <a:solidFill>
                  <a:srgbClr val="0072c6"/>
                </a:solidFill>
                <a:latin typeface="Avenir LT 55 Roman"/>
              </a:rPr>
              <a:t>quant à leur aptitude à servir de nouveau référentiel</a:t>
            </a: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72c6"/>
                </a:solidFill>
                <a:latin typeface="Avenir LT 55 Roman"/>
              </a:rPr>
              <a:t>Il faut trouver des indicateurs permettant :</a:t>
            </a:r>
            <a:endParaRPr b="0" lang="en-US" sz="1700" spc="-1" strike="noStrike">
              <a:solidFill>
                <a:srgbClr val="000000"/>
              </a:solidFill>
              <a:latin typeface="Calibri"/>
            </a:endParaRPr>
          </a:p>
          <a:p>
            <a:pPr lvl="1" marL="727920" indent="-28008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2c6"/>
                </a:solidFill>
                <a:latin typeface="Avenir LT 55 Roman"/>
              </a:rPr>
              <a:t>De tenir compte de l’évolution de la productivité et des « fruits de la croissance »</a:t>
            </a:r>
            <a:endParaRPr b="0" lang="en-US" sz="1400" spc="-1" strike="noStrike">
              <a:solidFill>
                <a:srgbClr val="000000"/>
              </a:solidFill>
              <a:latin typeface="Calibri"/>
            </a:endParaRPr>
          </a:p>
          <a:p>
            <a:pPr lvl="1" marL="727920" indent="-28008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2c6"/>
                </a:solidFill>
                <a:latin typeface="Avenir LT 55 Roman"/>
              </a:rPr>
              <a:t>De l’estimer de manière simple et sans retard ni révision</a:t>
            </a:r>
            <a:endParaRPr b="0" lang="en-US" sz="1400" spc="-1" strike="noStrike">
              <a:solidFill>
                <a:srgbClr val="000000"/>
              </a:solidFill>
              <a:latin typeface="Calibri"/>
            </a:endParaRPr>
          </a:p>
          <a:p>
            <a:pPr lvl="1" marL="727920" indent="-280080">
              <a:lnSpc>
                <a:spcPct val="9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27920" indent="-28008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27920" indent="-280080">
              <a:lnSpc>
                <a:spcPct val="90000"/>
              </a:lnSpc>
              <a:spcBef>
                <a:spcPts val="34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5880" indent="-335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90000"/>
              </a:lnSpc>
              <a:spcBef>
                <a:spcPts val="425"/>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5"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35BD-9B3C-405D-AC44-E7094FEE4A8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
        <p:nvSpPr>
          <p:cNvPr id="68" name="Flèche droite 1"/>
          <p:cNvSpPr/>
          <p:nvPr/>
        </p:nvSpPr>
        <p:spPr>
          <a:xfrm>
            <a:off x="473040" y="3789360"/>
            <a:ext cx="647640" cy="216000"/>
          </a:xfrm>
          <a:prstGeom prst="rightArrow">
            <a:avLst>
              <a:gd name="adj1" fmla="val 50000"/>
              <a:gd name="adj2" fmla="val 49972"/>
            </a:avLst>
          </a:prstGeom>
          <a:solidFill>
            <a:srgbClr val="f47a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Flèche droite 9"/>
          <p:cNvSpPr/>
          <p:nvPr/>
        </p:nvSpPr>
        <p:spPr>
          <a:xfrm>
            <a:off x="468360" y="4581360"/>
            <a:ext cx="647640" cy="216000"/>
          </a:xfrm>
          <a:prstGeom prst="rightArrow">
            <a:avLst>
              <a:gd name="adj1" fmla="val 50000"/>
              <a:gd name="adj2" fmla="val 49972"/>
            </a:avLst>
          </a:prstGeom>
          <a:solidFill>
            <a:srgbClr val="f47a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révisions du PIB</a:t>
            </a:r>
            <a:endParaRPr b="0" lang="en-US" sz="2400" spc="-1" strike="noStrike">
              <a:solidFill>
                <a:srgbClr val="000000"/>
              </a:solidFill>
              <a:latin typeface="Calibri"/>
            </a:endParaRPr>
          </a:p>
        </p:txBody>
      </p:sp>
      <p:sp>
        <p:nvSpPr>
          <p:cNvPr id="71" name=""/>
          <p:cNvSpPr txBox="1"/>
          <p:nvPr/>
        </p:nvSpPr>
        <p:spPr>
          <a:xfrm>
            <a:off x="457200" y="5229000"/>
            <a:ext cx="8229600" cy="896760"/>
          </a:xfrm>
          <a:prstGeom prst="rect">
            <a:avLst/>
          </a:prstGeom>
          <a:noFill/>
          <a:ln w="0">
            <a:noFill/>
          </a:ln>
        </p:spPr>
        <p:txBody>
          <a:bodyPr anchor="t">
            <a:norm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DF525-C349-4675-9CE9-AACC7F3A256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pic>
        <p:nvPicPr>
          <p:cNvPr id="75" name="Picture 3" descr=""/>
          <p:cNvPicPr/>
          <p:nvPr/>
        </p:nvPicPr>
        <p:blipFill>
          <a:blip r:embed="rId1"/>
          <a:stretch/>
        </p:blipFill>
        <p:spPr>
          <a:xfrm>
            <a:off x="353880" y="1862280"/>
            <a:ext cx="5154840" cy="3736800"/>
          </a:xfrm>
          <a:prstGeom prst="rect">
            <a:avLst/>
          </a:prstGeom>
          <a:ln w="0">
            <a:noFill/>
          </a:ln>
        </p:spPr>
      </p:pic>
      <p:sp>
        <p:nvSpPr>
          <p:cNvPr id="76" name="Espace réservé du contenu 8"/>
          <p:cNvSpPr/>
          <p:nvPr/>
        </p:nvSpPr>
        <p:spPr>
          <a:xfrm>
            <a:off x="5364000" y="1600200"/>
            <a:ext cx="3672000" cy="3998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Exemple des estimations de la croissance du PIB en 2009 (dernière année réputée « définitive »):</a:t>
            </a: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J+45 jours (comptes nationaux trimestriels) : -2,2%</a:t>
            </a: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J+5 mois (CN Annuels, estimation provisoire) : -2,5%</a:t>
            </a: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J+17 mois (CN Annuels, estimation semi-définitive) : -2,7%</a:t>
            </a:r>
            <a:endParaRPr b="0" lang="en-US" sz="1600" spc="-1" strike="noStrike">
              <a:solidFill>
                <a:srgbClr val="000000"/>
              </a:solidFill>
              <a:latin typeface="Calibri"/>
            </a:endParaRPr>
          </a:p>
          <a:p>
            <a:pPr>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72c6"/>
                </a:solidFill>
                <a:latin typeface="Avenir LT 55 Roman"/>
              </a:rPr>
              <a:t>J+29 mois (CN Annuels, estimation définitive) : -3,1%</a:t>
            </a:r>
            <a:endParaRPr b="0" lang="en-US" sz="1600" spc="-1" strike="noStrike">
              <a:solidFill>
                <a:srgbClr val="000000"/>
              </a:solidFill>
              <a:latin typeface="Calibri"/>
            </a:endParaRPr>
          </a:p>
          <a:p>
            <a:pPr lvl="1" marL="743040" indent="-285840">
              <a:lnSpc>
                <a:spcPct val="100000"/>
              </a:lnSpc>
              <a:spcBef>
                <a:spcPts val="451"/>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00"/>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divergences intersectorielles </a:t>
            </a:r>
            <a:br>
              <a:rPr sz="2400"/>
            </a:br>
            <a:r>
              <a:rPr b="0" lang="fr-FR" sz="2400" spc="-1" strike="noStrike">
                <a:solidFill>
                  <a:srgbClr val="0072c6"/>
                </a:solidFill>
                <a:latin typeface="Avenir LT 85 Heavy"/>
              </a:rPr>
              <a:t>des gains de productivité </a:t>
            </a:r>
            <a:r>
              <a:rPr b="0" lang="fr-FR" sz="1800" spc="-1" strike="noStrike">
                <a:solidFill>
                  <a:srgbClr val="0072c6"/>
                </a:solidFill>
                <a:latin typeface="Avenir LT 85 Heavy"/>
              </a:rPr>
              <a:t>(graphique reproduit depuis la Dares)</a:t>
            </a:r>
            <a:endParaRPr b="0" lang="en-US" sz="1800" spc="-1" strike="noStrike">
              <a:solidFill>
                <a:srgbClr val="000000"/>
              </a:solidFill>
              <a:latin typeface="Calibri"/>
            </a:endParaRPr>
          </a:p>
        </p:txBody>
      </p:sp>
      <p:sp>
        <p:nvSpPr>
          <p:cNvPr id="78" name=""/>
          <p:cNvSpPr txBox="1"/>
          <p:nvPr/>
        </p:nvSpPr>
        <p:spPr>
          <a:xfrm>
            <a:off x="457200" y="5229000"/>
            <a:ext cx="8229600" cy="896760"/>
          </a:xfrm>
          <a:prstGeom prst="rect">
            <a:avLst/>
          </a:prstGeom>
          <a:noFill/>
          <a:ln w="0">
            <a:noFill/>
          </a:ln>
        </p:spPr>
        <p:txBody>
          <a:bodyPr anchor="t">
            <a:normAutofit/>
          </a:bodyPr>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7078-4CA2-4F66-9002-BAF4F7FEA5C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pic>
        <p:nvPicPr>
          <p:cNvPr id="82" name="Picture 2" descr=""/>
          <p:cNvPicPr/>
          <p:nvPr/>
        </p:nvPicPr>
        <p:blipFill>
          <a:blip r:embed="rId1"/>
          <a:stretch/>
        </p:blipFill>
        <p:spPr>
          <a:xfrm>
            <a:off x="566640" y="1268280"/>
            <a:ext cx="8010720" cy="50468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24000" y="1915920"/>
            <a:ext cx="8640720" cy="15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Les propositions de nouveaux mécanismes d’indexation</a:t>
            </a:r>
            <a:br>
              <a:rPr sz="2400"/>
            </a:br>
            <a:br>
              <a:rPr sz="2400"/>
            </a:br>
            <a:r>
              <a:rPr b="0" lang="fr-FR" sz="2400" spc="-1" strike="noStrike">
                <a:solidFill>
                  <a:srgbClr val="0072c6"/>
                </a:solidFill>
                <a:latin typeface="Avenir LT 85 Heavy"/>
              </a:rPr>
              <a:t>Deux axes : </a:t>
            </a:r>
            <a:br>
              <a:rPr sz="2400"/>
            </a:br>
            <a:r>
              <a:rPr b="0" lang="fr-FR" sz="2400" spc="-1" strike="noStrike">
                <a:solidFill>
                  <a:srgbClr val="0072c6"/>
                </a:solidFill>
                <a:latin typeface="Avenir LT 85 Heavy"/>
              </a:rPr>
              <a:t>- la prise en compte du « revenu arbitrable »</a:t>
            </a:r>
            <a:br>
              <a:rPr sz="2400"/>
            </a:br>
            <a:r>
              <a:rPr b="0" lang="fr-FR" sz="2400" spc="-1" strike="noStrike">
                <a:solidFill>
                  <a:srgbClr val="0072c6"/>
                </a:solidFill>
                <a:latin typeface="Avenir LT 85 Heavy"/>
              </a:rPr>
              <a:t>- une prise en compte plus large du logement </a:t>
            </a:r>
            <a:endParaRPr b="0" lang="en-US" sz="2400" spc="-1" strike="noStrike">
              <a:solidFill>
                <a:srgbClr val="000000"/>
              </a:solidFill>
              <a:latin typeface="Calibri"/>
            </a:endParaRPr>
          </a:p>
        </p:txBody>
      </p:sp>
      <p:sp>
        <p:nvSpPr>
          <p:cNvPr id="84" name="Line 3"/>
          <p:cNvSpPr/>
          <p:nvPr/>
        </p:nvSpPr>
        <p:spPr>
          <a:xfrm>
            <a:off x="324000" y="378936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1.  La prise en compte du « revenu arbitrable »</a:t>
            </a:r>
            <a:endParaRPr b="0" lang="en-US" sz="2400" spc="-1" strike="noStrike">
              <a:solidFill>
                <a:srgbClr val="000000"/>
              </a:solidFill>
              <a:latin typeface="Calibri"/>
            </a:endParaRPr>
          </a:p>
        </p:txBody>
      </p:sp>
      <p:sp>
        <p:nvSpPr>
          <p:cNvPr id="86" name=""/>
          <p:cNvSpPr txBox="1"/>
          <p:nvPr/>
        </p:nvSpPr>
        <p:spPr>
          <a:xfrm>
            <a:off x="457200" y="1341000"/>
            <a:ext cx="8229600" cy="4784760"/>
          </a:xfrm>
          <a:prstGeom prst="rect">
            <a:avLst/>
          </a:prstGeom>
          <a:noFill/>
          <a:ln w="0">
            <a:noFill/>
          </a:ln>
        </p:spPr>
        <p:txBody>
          <a:bodyPr anchor="t">
            <a:normAutofit fontScale="99000"/>
          </a:bodyPr>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Les dépenses « pré-engagées » représentent un peu moins d’un tiers du revenu disponible de l’ensemble des ménages (sans distinction du niveau de revenu)</a:t>
            </a:r>
            <a:endParaRPr b="0" lang="en-US" sz="19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Logement, eau, gaz, électricité</a:t>
            </a: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Télécommunications, internet, TV</a:t>
            </a: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Assurances</a:t>
            </a: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Services financiers</a:t>
            </a: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72c6"/>
                </a:solidFill>
                <a:latin typeface="Avenir LT 55 Roman"/>
              </a:rPr>
              <a:t>Frais de cantine</a:t>
            </a:r>
            <a:endParaRPr b="0" lang="en-US" sz="1500" spc="-1" strike="noStrike">
              <a:solidFill>
                <a:srgbClr val="000000"/>
              </a:solidFill>
              <a:latin typeface="Calibri"/>
            </a:endParaRPr>
          </a:p>
          <a:p>
            <a:pPr lvl="1" marL="735480" indent="-28296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Des pistes ouvertes par le rapport du CAE Moati-Rochefort</a:t>
            </a: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Une question : quel périmètre de définition des dépenses « non-arbitrables » ou « pré-engagées » ? Risque d’introduction d’un critère relativement arbitraire. </a:t>
            </a:r>
            <a:br>
              <a:rPr sz="1900"/>
            </a:br>
            <a:r>
              <a:rPr b="0" lang="fr-FR" sz="1900" spc="-1" strike="noStrike">
                <a:solidFill>
                  <a:srgbClr val="0072c6"/>
                </a:solidFill>
                <a:latin typeface="Avenir LT 55 Roman"/>
              </a:rPr>
              <a:t>Réponse a priori par l’Insee. </a:t>
            </a:r>
            <a:br>
              <a:rPr sz="1900"/>
            </a:br>
            <a:r>
              <a:rPr b="0" lang="fr-FR" sz="1900" spc="-1" strike="noStrike">
                <a:solidFill>
                  <a:srgbClr val="0072c6"/>
                </a:solidFill>
                <a:latin typeface="Avenir LT 55 Roman"/>
              </a:rPr>
              <a:t>L’OCDE définit les dépenses contraintes socialement minimales par les dépenses réelles engagées par les ménages du 1</a:t>
            </a:r>
            <a:r>
              <a:rPr b="0" lang="fr-FR" sz="1900" spc="-1" strike="noStrike" baseline="30000">
                <a:solidFill>
                  <a:srgbClr val="0072c6"/>
                </a:solidFill>
                <a:latin typeface="Avenir LT 55 Roman"/>
              </a:rPr>
              <a:t>er</a:t>
            </a:r>
            <a:r>
              <a:rPr b="0" lang="fr-FR" sz="1900" spc="-1" strike="noStrike">
                <a:solidFill>
                  <a:srgbClr val="0072c6"/>
                </a:solidFill>
                <a:latin typeface="Avenir LT 55 Roman"/>
              </a:rPr>
              <a:t> décile de revenu.</a:t>
            </a: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35480" indent="-282960">
              <a:lnSpc>
                <a:spcPct val="8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9480" indent="-33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8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87"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9D17-5D28-4C42-840E-3215743CD49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2c6"/>
                </a:solidFill>
                <a:latin typeface="Avenir LT 85 Heavy"/>
              </a:rPr>
              <a:t>2.  La prise en compte des prix du logement</a:t>
            </a:r>
            <a:endParaRPr b="0" lang="en-US" sz="2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De quel logement parle-t-on ? Location, propriété ? L’acquisition d’un logement est un achat d’actif, un investissement, pas une dépense de consommation.</a:t>
            </a: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Les remboursements de crédit sont inclus dans le budget des familles.</a:t>
            </a: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Proposition de Moati-Rochefort : prise en compte partielle des prix des logements</a:t>
            </a:r>
            <a:br>
              <a:rPr sz="1900"/>
            </a:br>
            <a:r>
              <a:rPr b="0" lang="fr-FR" sz="1900" spc="-1" strike="noStrike">
                <a:solidFill>
                  <a:srgbClr val="0072c6"/>
                </a:solidFill>
                <a:latin typeface="Avenir LT 55 Roman"/>
              </a:rPr>
              <a:t>- logements neufs uniquement</a:t>
            </a:r>
            <a:br>
              <a:rPr sz="1900"/>
            </a:br>
            <a:r>
              <a:rPr b="0" lang="fr-FR" sz="1900" spc="-1" strike="noStrike">
                <a:solidFill>
                  <a:srgbClr val="0072c6"/>
                </a:solidFill>
                <a:latin typeface="Avenir LT 55 Roman"/>
              </a:rPr>
              <a:t>- primo-accession uniquement</a:t>
            </a:r>
            <a:endParaRPr b="0" lang="en-US" sz="1900" spc="-1" strike="noStrike">
              <a:solidFill>
                <a:srgbClr val="000000"/>
              </a:solidFill>
              <a:latin typeface="Calibri"/>
            </a:endParaRPr>
          </a:p>
          <a:p>
            <a:pPr lvl="1" marL="45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72c6"/>
                </a:solidFill>
                <a:latin typeface="Avenir LT 55 Roman"/>
              </a:rPr>
              <a:t>Quel référentiel adopter ? Fortes disparités régionales en termes de niveaux de prix mais aussi en termes d’évolution pour ce qui concerne les logements anciens. Quelle répercussion de ces disparités sur les évolutions régionales de prix des logements nouveaux ?</a:t>
            </a:r>
            <a:endParaRPr b="0" lang="en-US" sz="1900" spc="-1" strike="noStrike">
              <a:solidFill>
                <a:srgbClr val="000000"/>
              </a:solidFill>
              <a:latin typeface="Calibri"/>
            </a:endParaRPr>
          </a:p>
          <a:p>
            <a:pPr lvl="1" marL="457200">
              <a:lnSpc>
                <a:spcPct val="10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457200">
              <a:lnSpc>
                <a:spcPct val="100000"/>
              </a:lnSpc>
              <a:spcBef>
                <a:spcPts val="374"/>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00000"/>
              </a:lnSpc>
              <a:spcBef>
                <a:spcPts val="476"/>
              </a:spcBef>
              <a:buClr>
                <a:srgbClr val="0072c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92" name="Espace réservé du numéro de diapositive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EE673-B81D-44BE-89D4-1FF38CE2164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3" name="Line 3"/>
          <p:cNvSpPr/>
          <p:nvPr/>
        </p:nvSpPr>
        <p:spPr>
          <a:xfrm>
            <a:off x="358920" y="1197000"/>
            <a:ext cx="8424720" cy="0"/>
          </a:xfrm>
          <a:prstGeom prst="line">
            <a:avLst/>
          </a:prstGeom>
          <a:ln w="28440">
            <a:solidFill>
              <a:srgbClr val="f47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Espace réservé de la date 3"/>
          <p:cNvSpPr/>
          <p:nvPr/>
        </p:nvSpPr>
        <p:spPr>
          <a:xfrm>
            <a:off x="179280" y="6165720"/>
            <a:ext cx="7883640" cy="432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72c6"/>
                </a:solidFill>
                <a:latin typeface="Avenir LT 55 Roman"/>
              </a:rPr>
              <a:t>Sous-Commission des Salaires – 4 décembre 2012</a:t>
            </a:r>
            <a:endParaRPr b="0" lang="en-US" sz="1200" spc="-1" strike="noStrike">
              <a:solidFill>
                <a:srgbClr val="000000"/>
              </a:solidFill>
              <a:latin typeface="Calibri"/>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nis Ferrand</dc:creator>
  <dc:description/>
  <cp:keywords>SMIC</cp:keywords>
  <dc:language>en-US</dc:language>
  <cp:lastModifiedBy>FBL</cp:lastModifiedBy>
  <cp:lastPrinted>2012-12-04T10:41:22Z</cp:lastPrinted>
  <dcterms:modified xsi:type="dcterms:W3CDTF">2012-12-07T17:21:19Z</dcterms:modified>
  <cp:revision>35</cp:revision>
  <dc:subject/>
  <dc:title>Présentation PowerPoint</dc:title>
</cp:coreProperties>
</file>