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A15FD-013D-48E8-ACC8-C96A62FD5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7F458-8416-48CD-8EB6-10C23BB7A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61340-52F9-43B9-ABFA-F26DD931D0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4F2C8-0CFC-4BD5-9BB2-0FC61B33A5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894B0-B130-43C6-B97B-1AA0BFAE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2D68D-E514-484A-ABD7-752BCFBB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58280-9A9B-4F42-9413-50CFD8AE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AD968-247A-4226-BD30-BDEEC0C1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81E99-3EE3-4418-9EDC-7FB38AAE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820D4-A980-4AB2-9E8D-00C3DBB6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D84DC-1A2A-4A78-9E96-F0B17F84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097BC-C962-470C-B055-3177376139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C6708-0052-4366-8DA6-3CC1CAA8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48D41-BB94-4BDE-BE56-78BEF217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875A5-83F3-479E-A1D2-00F58D35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2EFA2-A5D7-4C68-ADD3-017BBD9F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AECAE-6131-49C5-BDE4-475E309B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89889-BB70-4A13-98B3-A708D8D5B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5EB1B-4AA2-477C-A3ED-88EC27261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DC196-7C4B-48D9-AEFA-F3EA72B26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F38B7-5C18-444D-A927-2DDEAE4EA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83AE-5407-4876-8557-755E424969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EE2F9-833A-4EE9-BAB1-F255BD20E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57A3E-4E94-4B42-AADD-D778A3046D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435280" y="623736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 u="sng">
                <a:solidFill>
                  <a:srgbClr val="006699"/>
                </a:solidFill>
                <a:uFillTx/>
                <a:latin typeface="Avenir LT 55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- </a:t>
            </a:r>
            <a:fld id="{177FE81C-67CD-4E0D-8672-546C061A910A}" type="slidenum"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A1B7-5BD7-4A50-BC26-B5D7AFD6CC4F}" type="slidenum"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28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Avenir LT 55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24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413000"/>
            <a:ext cx="79689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World Trade in 2009 and 2010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Report submitted to the AIECE Autumn General Mee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russels, 4th-5th November 200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y Alain Henrio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…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the consequence of an historical drop in trade flow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984640" cy="37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76360" y="170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Avenir LT 85 Heavy"/>
              </a:rPr>
              <a:t>World trade: an historical perspec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0AAEC-F16D-4BD2-A474-FF6A1D53BA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trade forecast: a strong rebound followed by a moderate growth (+7.4% in 2010 after -13.5% in 2009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11984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6553080" cy="417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39B9-2662-4180-9177-04121D7973D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urning points of world trade and industrial production business cycles are very similar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417080" cy="374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76360" y="1628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Growth cycles of world imports and world industrial productio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9C2E0-3094-4CCF-9D44-933ED94FDAB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2424-CBF4-4D24-BEA9-6699DE2E11E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venir LT 85 Heavy"/>
              </a:rPr>
              <a:t>First signals of a recovery were observed in emerging countries but no decoupling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20720" y="2708280"/>
            <a:ext cx="5837400" cy="349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F8CC2-5C53-436B-9249-936FA76FEBB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China played a leading role here, leading other Asian countrie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China: imports by main supplie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5291280" cy="34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4CC35-A4C5-40BC-ADA7-B5539621C76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he situation in other emerging countries remain heterogeneous regarding imports dynamism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2421000"/>
            <a:ext cx="3751200" cy="347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88944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932B8-C764-4749-B97F-84576E23FCC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8864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e expect only a moderate growth of developed countries imports in 2010. No further gains of terms of trade in 2010 (transfers in 2009 of about 1% of GDP), but no inflationary pressure.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554200"/>
            <a:ext cx="4254480" cy="3467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59280" y="2565360"/>
          <a:ext cx="416556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2565360"/>
                    <a:ext cx="4165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6D55-34E7-45A5-A5A3-77531288BCE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031A7-E1E1-4FDB-9FEC-E35F5AD1BCF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eakness of the dollar might slow the recovery in the Euro area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84464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Avenir LT 85 Heavy"/>
              </a:rPr>
              <a:t>Price competitiveness: national export prices/competitors in a common currenc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83962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094EE-455B-4030-B1AD-CC0279CEFE7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the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Conten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54BF9-2737-466D-A4B5-16C0316A376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Germany and Japan especially hit by the contraction of the sales of equipment good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121440" cy="345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2060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Avenir LT 85 Heavy"/>
              </a:rPr>
              <a:t>Value of exports (7 months 2009/7 months 2008, percentage chang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C6989-58BE-4711-AAA2-CEBBCC77DAE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5A079-795A-4FCA-9EFA-9D80B68DB68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Main trade imbalances have not been fully offset by the crisi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18446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venir LT 85 Heavy"/>
              </a:rPr>
              <a:t>Trade bal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078520" cy="30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9FE95-FD95-4279-8A75-1EB14FA2F91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557360"/>
            <a:ext cx="835344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Downside risks </a:t>
            </a:r>
            <a:r>
              <a:rPr b="1" lang="en-GB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Would Europe and the U.S. find enough support from their internal demand to keep the global recovery continuing?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Overheating in China might trigger a double dip late 2010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Global imbalances raises a risk on the exchange rate system (crash of the dollar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As a consequence of trade deficits and high unemployment, the U.S. and Europe can be attracted by protectionist measure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AE922-F14C-42AE-93CF-9A7B43632C6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557360"/>
            <a:ext cx="835344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Upside risks</a:t>
            </a:r>
            <a:r>
              <a:rPr b="1" i="1" lang="en-GB" sz="4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lang="en-GB" sz="44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The catching up process (huge output gap) might imply a quicker and longer economic growth of activity and trade than expecte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Emerging countries could take the lead of world trade growth to satisfy internal need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D217C-A9B0-4186-B71D-C05FE3BA3558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Financial and raw materials markets have given an early sign of the reboun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7848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DDCD9-7F74-4F05-B623-14E7D83019A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Raw material and energy prices have already strongly recovere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41204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8B339-1877-47C4-B7DD-8E5E61CB99C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orld economy fell into recession in 2008Q4 and 2009Q1 before registering a positive growth in 2009Q2, which should have been strengthened in 2009Q3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43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88D0-F257-453B-B412-A89B262CC46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2320" y="40428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industrial production back to previous trend (but a huge gap in terms of level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051680" cy="42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BE861-72A5-4881-936F-C3D550BAA75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3300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Most recent figures show a pick up in world trade during last summer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42920" y="1773360"/>
            <a:ext cx="7885080" cy="4613040"/>
            <a:chOff x="1042920" y="1773360"/>
            <a:chExt cx="7885080" cy="46130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042920" y="1773360"/>
              <a:ext cx="6912000" cy="46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451640" y="405144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99"/>
                  </a:solidFill>
                  <a:latin typeface="Avenir LT 85 Heavy"/>
                </a:rPr>
                <a:t>* </a:t>
              </a:r>
              <a:r>
                <a:rPr b="1" lang="en-GB" sz="1200" spc="-1" strike="noStrike">
                  <a:solidFill>
                    <a:srgbClr val="006699"/>
                  </a:solidFill>
                  <a:latin typeface="Avenir LT 85 Heavy"/>
                </a:rPr>
                <a:t>(Sept. est.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A3A75-E09B-411E-90E2-BFAB1C5E986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2200" spc="-1" strike="noStrike">
                <a:solidFill>
                  <a:srgbClr val="006699"/>
                </a:solidFill>
                <a:latin typeface="Avenir LT 85 Heavy"/>
              </a:rPr>
              <a:t>However, t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he use of « soft » data (here world PMI export order books) can be a bit misleading in the current context regarding the measure of the intensity of the rebound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89240" y="1981080"/>
            <a:ext cx="6778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811A9-B73E-48C0-A0F2-C91DD8B5B20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venir LT 85 Heavy"/>
              </a:rPr>
              <a:t>The gap between the current level of world trade and the pre-crisis level remains huge…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3FC19-21C4-4CF6-9FE0-DC963D4C37C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4:57:24Z</dcterms:created>
  <dc:creator>Alain HENRIOT</dc:creator>
  <dc:description/>
  <dc:language>en-US</dc:language>
  <cp:lastModifiedBy>Fabienne Besson-Lhoste</cp:lastModifiedBy>
  <cp:lastPrinted>2002-05-22T13:54:52Z</cp:lastPrinted>
  <dcterms:modified xsi:type="dcterms:W3CDTF">2009-11-09T11:12:10Z</dcterms:modified>
  <cp:revision>385</cp:revision>
  <dc:subject/>
  <dc:title>World Trade in 2009 and 2010 - AIECE autumn general meeting 2009</dc:title>
</cp:coreProperties>
</file>