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0BA3-C5D0-4524-BD56-89C38B7C6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C1DA-A845-455E-B1FF-7593BA87D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B943-183B-49B7-85CA-29DD4988E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955AA-ADDE-4214-BED2-559F94CC7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0015F-FFD0-4744-BD6A-FEDB8613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8A5BF-979F-4139-89B4-23F34DC3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4652C-8F24-4EE4-A206-AAD479FE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ABA73-A9B8-4D3B-94C3-24A2E017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3742C-84B8-4FF3-A997-ABAB61B6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19D59-4776-43B9-9826-2FE87930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72619-C372-4D84-AB2B-C530D97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A35-FA1C-4F12-8AB2-F072C2046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6CB5B-C1F3-4D08-A20E-C02B6440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64B6B-667D-4B89-9630-E2948C7F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DB42E-87F9-4338-880D-C947531A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B84E-388B-4E4E-95D1-2A8F318F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04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75160" y="198108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04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75160" y="4130640"/>
            <a:ext cx="27338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32792-B1F7-4DC3-B856-93151C79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755B2-7DA0-431B-862B-4F675AA63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55C8-7F12-400F-8F61-B19712FE4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1289-321E-401D-906B-8FD70E9EC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609120"/>
            <a:ext cx="8491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BA0A-608D-49DD-A03F-A65F94B6E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8A2B-9CBF-4D9F-9C2B-CB3FE4F42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4480" y="413064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B030-6283-46FD-B37C-495F71647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4480" y="1981080"/>
            <a:ext cx="4143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130640"/>
            <a:ext cx="849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3E54-5DB8-442D-BA9D-084342661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1080"/>
            <a:ext cx="849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99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435280" y="6237360"/>
            <a:ext cx="352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300" spc="-1" strike="noStrike" u="sng">
                <a:solidFill>
                  <a:srgbClr val="006699"/>
                </a:solidFill>
                <a:uFillTx/>
                <a:latin typeface="Avenir LT 55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- </a:t>
            </a:r>
            <a:fld id="{AA2B3766-F702-4CF0-A347-AC3DB6F37609}" type="slidenum">
              <a:rPr b="1" lang="fr-FR" sz="1300" spc="-1" strike="noStrike" u="sng">
                <a:solidFill>
                  <a:srgbClr val="006699"/>
                </a:solidFill>
                <a:uFillTx/>
                <a:latin typeface="Avenir LT 55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00" y="1557360"/>
            <a:ext cx="842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venir LT 85 Heavy"/>
              </a:rPr>
              <a:t>Click to edit the title text forma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423-CCC6-458C-B28D-28BF2610F51D}" type="slidenum">
              <a:rPr b="1" lang="fr-FR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venir LT 55 Roman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Avenir LT 55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venir LT 55 Roman"/>
              </a:rPr>
              <a:t>Second Outline Level</a:t>
            </a:r>
            <a:endParaRPr b="1" lang="en-US" sz="2800" spc="-1" strike="noStrike">
              <a:solidFill>
                <a:srgbClr val="006699"/>
              </a:solidFill>
              <a:latin typeface="Avenir LT 55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Avenir LT 55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venir LT 55 Roman"/>
              </a:rPr>
              <a:t>Third Outline Level</a:t>
            </a:r>
            <a:endParaRPr b="1" lang="en-US" sz="2400" spc="-1" strike="noStrike">
              <a:solidFill>
                <a:srgbClr val="006699"/>
              </a:solidFill>
              <a:latin typeface="Avenir LT 55 Roman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our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Avenir LT 55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Fif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ix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venir LT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venir LT 55 Roman"/>
              </a:rPr>
              <a:t>Seventh Outline Level</a:t>
            </a:r>
            <a:endParaRPr b="1" lang="en-US" sz="2000" spc="-1" strike="noStrike">
              <a:solidFill>
                <a:srgbClr val="006699"/>
              </a:solidFill>
              <a:latin typeface="Avenir LT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413000"/>
            <a:ext cx="79689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World Trade in 2009 and 2010</a:t>
            </a:r>
            <a:endParaRPr b="0" lang="en-US" sz="35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Report submitted to the AIECE Autumn General Meet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russels, 4th-5th November 2009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5a9c"/>
                </a:solidFill>
                <a:latin typeface="Arial"/>
                <a:ea typeface="ＭＳ Ｐゴシック"/>
              </a:rPr>
              <a:t>By Alain Henrio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…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the consequence of an historical drop in trade flow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5984640" cy="378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476360" y="170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Avenir LT 85 Heavy"/>
              </a:rPr>
              <a:t>World trade: an historical perspectiv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236AA-BA78-413C-8FC9-EA0F3E746E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trade forecast: a strong rebound followed by a moderate growth (+7.4% in 2010 after -13.5% in 2009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11984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1916280"/>
            <a:ext cx="6553080" cy="417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585A-F66A-47B4-BC26-CEC580DDC7F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urning points of world trade and industrial production business cycles are very similar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3745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476360" y="1628640"/>
            <a:ext cx="698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Growth cycles of world imports and world industrial produc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44A3-8BAA-490D-8CC4-824D2369ED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68FB-614C-4B63-BBA9-97E614B36B0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venir LT 85 Heavy"/>
              </a:rPr>
              <a:t>First signals of a recovery were observed in emerging countries but no decoupling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20720" y="2708280"/>
            <a:ext cx="5837400" cy="3492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FCE96-47BC-436E-AF21-86E36BCF272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2320" y="33300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China played a leading role here, leading other Asian countries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16" name=""/>
          <p:cNvSpPr/>
          <p:nvPr/>
        </p:nvSpPr>
        <p:spPr>
          <a:xfrm>
            <a:off x="1258920" y="193212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China: imports by main supplier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2637000"/>
            <a:ext cx="5291280" cy="347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1803-011F-4AFB-87EE-EA1F99BEB0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The situation in other emerging countries remain heterogeneous regarding imports dynamism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2421000"/>
            <a:ext cx="3751200" cy="347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2421000"/>
            <a:ext cx="38894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032D-EA1E-48CC-9124-6ED98E9F063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8864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e expect only a moderate growth of developed countries imports in 2010. No further gains of terms of trade in 2010 (transfers in 2009 of about 1% of GDP), but no inflationary pressure.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554200"/>
            <a:ext cx="4254480" cy="3467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58920" y="17002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99"/>
                </a:solidFill>
                <a:latin typeface="Avenir LT 85 Heavy"/>
              </a:rPr>
              <a:t>Import levels in volume terms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59280" y="2565360"/>
          <a:ext cx="416556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65360"/>
                    <a:ext cx="416556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2853-7233-47D3-86ED-7A7C6601B3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E850-B047-41F1-B8B7-C1251A3D568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eakness of the dollar might slow the recovery in the Euro area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84464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99"/>
                </a:solidFill>
                <a:latin typeface="Avenir LT 85 Heavy"/>
              </a:rPr>
              <a:t>Price competitiveness: national export prices/competitors in a common currenc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83962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F268-EA64-48A0-A147-F40EADF58A8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the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Conten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7A83-0286-45C9-BD90-171F89560D2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Germany and Japan especially hit by the contraction of the sales of equipment good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6121440" cy="345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1280" y="2060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99"/>
                </a:solidFill>
                <a:latin typeface="Avenir LT 85 Heavy"/>
              </a:rPr>
              <a:t>Value of exports (7 months 2009/7 months 2008, percentage chang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C7A4-CA18-472E-8135-266AE011037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27664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1. Overview of world economy and general assum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2. Imports and domestic dema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3. Exports and price competitive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7c80"/>
                </a:solidFill>
                <a:latin typeface="Avenir LT 85 Heavy"/>
              </a:rPr>
              <a:t>4. Trade balances</a:t>
            </a:r>
            <a:r>
              <a:rPr b="0" lang="fr-FR" sz="2400" spc="-1" strike="noStrike">
                <a:solidFill>
                  <a:srgbClr val="ffffcc"/>
                </a:solidFill>
                <a:latin typeface="Avenir LT 85 Heavy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772B-40EE-4C03-9409-EF703AB70BB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Main trade imbalances have not been fully offset by the crisis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84464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Avenir LT 85 Heavy"/>
              </a:rPr>
              <a:t>Trade bala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078520" cy="30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09F9-9E14-4D32-8B59-5A533F2370B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1557360"/>
            <a:ext cx="835344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Downside risks </a:t>
            </a:r>
            <a:r>
              <a:rPr b="1" lang="en-GB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Would Europe and the U.S. find enough support from their internal demand to keep the global recovery continuing?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Overheating in China might trigger a double dip late 2010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Global imbalances raises a risk on the exchange rate system (crash of the dollar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As a consequence of trade deficits and high unemployment, the U.S. and Europe can be attracted by protectionist measur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0879-0125-4606-B050-966109F840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557360"/>
            <a:ext cx="835344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i="1" lang="en-GB" sz="2400" spc="-1" strike="noStrike">
                <a:solidFill>
                  <a:srgbClr val="ff7c80"/>
                </a:solidFill>
                <a:latin typeface="Avenir LT 85 Heavy"/>
              </a:rPr>
              <a:t>Upside risks</a:t>
            </a:r>
            <a:r>
              <a:rPr b="1" i="1" lang="en-GB" sz="4400" spc="-1" strike="noStrike">
                <a:solidFill>
                  <a:srgbClr val="ff7c80"/>
                </a:solidFill>
                <a:latin typeface="Avenir LT 85 Heavy"/>
              </a:rPr>
              <a:t> </a:t>
            </a:r>
            <a:r>
              <a:rPr b="1" lang="en-GB" sz="44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a9c"/>
                </a:solidFill>
                <a:latin typeface="Avenir LT 85 Heavy"/>
              </a:rPr>
              <a:t>. </a:t>
            </a: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The catching up process (huge output gap) might imply a quicker and longer economic growth of activity and trade than expec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5a9c"/>
                </a:solidFill>
                <a:latin typeface="Avenir LT 85 Heavy"/>
              </a:rPr>
              <a:t>. Emerging countries could take the lead of world trade growth to satisfy internal need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0428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Some risks of the forecast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6BBF-4533-4DCD-88AE-6CE0B8BA7EA3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Financial and raw materials markets have given an early sign of the reboun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7848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0312-7703-4EFA-A786-8A80A3C241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Raw material and energy prices have already strongly recovered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12040" cy="44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F0FA-8FEF-4A16-ACF0-27E92C1FB0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World economy fell into recession in 2008Q4 and 2009Q1 before registering a positive growth in 2009Q2, which should have been strengthened in 2009Q3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80360" cy="43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1F6C-2C7B-48C7-A626-9DBEFCE2A32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2320" y="404280"/>
            <a:ext cx="849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2800" spc="-1" strike="noStrike">
                <a:solidFill>
                  <a:srgbClr val="006699"/>
                </a:solidFill>
                <a:latin typeface="Avenir LT 85 Heavy"/>
              </a:rPr>
              <a:t>World industrial production back to previous trend (but a huge gap in terms of level)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051680" cy="42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48C2-A214-4E6D-A685-2C2A744302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3300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GB" sz="3200" spc="-1" strike="noStrike">
                <a:solidFill>
                  <a:srgbClr val="006699"/>
                </a:solidFill>
                <a:latin typeface="Avenir LT 85 Heavy"/>
              </a:rPr>
              <a:t>Most recent figures show a pick up in world trade during last summer</a:t>
            </a:r>
            <a:endParaRPr b="1" i="1" lang="en-US" sz="3200" spc="-1" strike="noStrike">
              <a:solidFill>
                <a:srgbClr val="006699"/>
              </a:solidFill>
              <a:latin typeface="Avenir LT 85 Heavy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42920" y="1773360"/>
            <a:ext cx="7885080" cy="4613040"/>
            <a:chOff x="1042920" y="1773360"/>
            <a:chExt cx="7885080" cy="461304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1042920" y="1773360"/>
              <a:ext cx="6912000" cy="46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451640" y="405144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99"/>
                  </a:solidFill>
                  <a:latin typeface="Avenir LT 85 Heavy"/>
                </a:rPr>
                <a:t>* </a:t>
              </a:r>
              <a:r>
                <a:rPr b="1" lang="en-GB" sz="1200" spc="-1" strike="noStrike">
                  <a:solidFill>
                    <a:srgbClr val="006699"/>
                  </a:solidFill>
                  <a:latin typeface="Avenir LT 85 Heavy"/>
                </a:rPr>
                <a:t>(Sept. est.)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AF72-E7C8-4FB8-B8B3-0FF1B01BBF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fr-FR" sz="2200" spc="-1" strike="noStrike">
                <a:solidFill>
                  <a:srgbClr val="006699"/>
                </a:solidFill>
                <a:latin typeface="Avenir LT 85 Heavy"/>
              </a:rPr>
              <a:t>However, t</a:t>
            </a:r>
            <a:r>
              <a:rPr b="1" lang="en-GB" sz="2200" spc="-1" strike="noStrike">
                <a:solidFill>
                  <a:srgbClr val="006699"/>
                </a:solidFill>
                <a:latin typeface="Avenir LT 85 Heavy"/>
              </a:rPr>
              <a:t>he use of « soft » data (here world PMI export order books) can be a bit misleading in the current context regarding the measure of the intensity of the rebound</a:t>
            </a:r>
            <a:endParaRPr b="1" i="1" lang="en-US" sz="22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89240" y="1981080"/>
            <a:ext cx="67784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7EF0-21E2-435F-96D8-A02F3DF29A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8680" y="259920"/>
            <a:ext cx="84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0000"/>
              </a:buClr>
              <a:buFont typeface="Avenir LT 85 Heav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99"/>
                </a:solidFill>
                <a:latin typeface="Avenir LT 85 Heavy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Avenir LT 85 Heavy"/>
              </a:rPr>
              <a:t>The gap between the current level of world trade and the pre-crisis level remains huge…</a:t>
            </a:r>
            <a:endParaRPr b="1" i="1" lang="en-US" sz="2800" spc="-1" strike="noStrike">
              <a:solidFill>
                <a:srgbClr val="006699"/>
              </a:solidFill>
              <a:latin typeface="Avenir LT 85 Heavy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91BC-0440-4DEA-8CAC-720D5DAA71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4:57:24Z</dcterms:created>
  <dc:creator>Alain HENRIOT</dc:creator>
  <dc:description/>
  <dc:language>en-US</dc:language>
  <cp:lastModifiedBy>Fabienne Besson-Lhoste</cp:lastModifiedBy>
  <cp:lastPrinted>2002-05-22T13:54:52Z</cp:lastPrinted>
  <dcterms:modified xsi:type="dcterms:W3CDTF">2009-11-09T11:12:10Z</dcterms:modified>
  <cp:revision>385</cp:revision>
  <dc:subject/>
  <dc:title>World Trade in 2009 and 2010 - AIECE autumn general meeting 2009</dc:title>
</cp:coreProperties>
</file>